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58.jpeg" ContentType="image/jpeg"/>
  <Override PartName="/ppt/media/image53.jpeg" ContentType="image/jpeg"/>
  <Override PartName="/ppt/media/image23.png" ContentType="image/png"/>
  <Override PartName="/ppt/media/image51.png" ContentType="image/png"/>
  <Override PartName="/ppt/media/image4.jpeg" ContentType="image/jpeg"/>
  <Override PartName="/ppt/media/image46.png" ContentType="image/png"/>
  <Override PartName="/ppt/media/image45.png" ContentType="image/png"/>
  <Override PartName="/ppt/media/image50.png" ContentType="image/png"/>
  <Override PartName="/ppt/media/image5.jpeg" ContentType="image/jpeg"/>
  <Override PartName="/ppt/media/image26.jpeg" ContentType="image/jpeg"/>
  <Override PartName="/ppt/media/image42.png" ContentType="image/png"/>
  <Override PartName="/ppt/media/image25.png" ContentType="image/png"/>
  <Override PartName="/ppt/media/image18.jpeg" ContentType="image/jpeg"/>
  <Override PartName="/ppt/media/image49.jpeg" ContentType="image/jpeg"/>
  <Override PartName="/ppt/media/image16.png" ContentType="image/png"/>
  <Override PartName="/ppt/media/image56.jpeg" ContentType="image/jpeg"/>
  <Override PartName="/ppt/media/image15.png" ContentType="image/png"/>
  <Override PartName="/ppt/media/image3.png" ContentType="image/png"/>
  <Override PartName="/ppt/media/image40.png" ContentType="image/png"/>
  <Override PartName="/ppt/media/image61.jpeg" ContentType="image/jpeg"/>
  <Override PartName="/ppt/media/image36.jpeg" ContentType="image/jpeg"/>
  <Override PartName="/ppt/media/image2.jpeg" ContentType="image/jpeg"/>
  <Override PartName="/ppt/media/image20.png" ContentType="image/png"/>
  <Override PartName="/ppt/media/image67.jpeg" ContentType="image/jpeg"/>
  <Override PartName="/ppt/media/image66.jpeg" ContentType="image/jpeg"/>
  <Override PartName="/ppt/media/image11.png" ContentType="image/png"/>
  <Override PartName="/ppt/media/image48.png" ContentType="image/png"/>
  <Override PartName="/ppt/media/image33.jpeg" ContentType="image/jpeg"/>
  <Override PartName="/ppt/media/image27.png" ContentType="image/png"/>
  <Override PartName="/ppt/media/image65.jpeg" ContentType="image/jpeg"/>
  <Override PartName="/ppt/media/image8.png" ContentType="image/png"/>
  <Override PartName="/ppt/media/image38.png" ContentType="image/png"/>
  <Override PartName="/ppt/media/image63.jpeg" ContentType="image/jpeg"/>
  <Override PartName="/ppt/media/image6.jpeg" ContentType="image/jpeg"/>
  <Override PartName="/ppt/media/image17.jpeg" ContentType="image/jpeg"/>
  <Override PartName="/ppt/media/image60.jpeg" ContentType="image/jpeg"/>
  <Override PartName="/ppt/media/image24.png" ContentType="image/png"/>
  <Override PartName="/ppt/media/image21.gif" ContentType="image/gif"/>
  <Override PartName="/ppt/media/image10.jpeg" ContentType="image/jpeg"/>
  <Override PartName="/ppt/media/image28.jpeg" ContentType="image/jpeg"/>
  <Override PartName="/ppt/media/image22.png" ContentType="image/png"/>
  <Override PartName="/ppt/media/image29.jpeg" ContentType="image/jpeg"/>
  <Override PartName="/ppt/media/image14.jpeg" ContentType="image/jpeg"/>
  <Override PartName="/ppt/media/image52.jpeg" ContentType="image/jpeg"/>
  <Override PartName="/ppt/media/image13.png" ContentType="image/png"/>
  <Override PartName="/ppt/media/image54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62.jpeg" ContentType="image/jpe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9.png" ContentType="image/png"/>
  <Override PartName="/ppt/media/image39.png" ContentType="image/png"/>
  <Override PartName="/ppt/media/image64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41.png" ContentType="image/png"/>
  <Override PartName="/ppt/media/image55.jpeg" ContentType="image/jpeg"/>
  <Override PartName="/ppt/media/image43.png" ContentType="image/png"/>
  <Override PartName="/ppt/media/image57.jpeg" ContentType="image/jpeg"/>
  <Override PartName="/ppt/media/image4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3D86-21A5-4475-A16B-8ECE11FBC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6508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65080" y="1841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65080" y="3990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A560-F09A-4722-BB05-57457EC0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6508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65080" y="1841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47760" y="1841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65080" y="3990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47760" y="3990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6430-DBC1-418E-986B-1EF296A1C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6508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65080" y="1841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93080" y="1841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0720" y="1841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65080" y="3990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93080" y="3990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0720" y="3990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EF9D-AD02-44D6-87AD-D77AD3AB6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121D-2F47-4136-8267-07B1784E9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6508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65080" y="1841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493C-3C3B-4B10-935C-235CDA48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6508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65080" y="1841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226B-E959-446C-B2D6-AADD2C7E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6508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65080" y="1841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47760" y="1841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138A7-8D02-4D1F-B922-6CCB151C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6508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AD6C-FAE2-464D-9E53-127CBC39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65080" y="469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7D5E-EA40-4A43-B3F6-5104AAD1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6508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65080" y="1841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47760" y="1841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65080" y="3990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D915-1371-4B0D-8863-81CE1C75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6508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65080" y="1841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7C59-FEAE-4562-9F3D-B3BEC1AE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6508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65080" y="1841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47760" y="1841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47760" y="3990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5973-5707-40CC-97B1-68D4001B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6508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65080" y="1841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47760" y="1841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65080" y="3990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D7A95-77F2-445C-8CB0-74CA3559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6508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65080" y="1841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65080" y="3990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AF41-325B-47EE-BE98-BFC16DEC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6508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65080" y="1841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47760" y="1841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65080" y="3990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47760" y="3990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576BE-A8AE-4339-9432-1D6FC5419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6508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65080" y="1841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93080" y="1841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20720" y="1841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65080" y="3990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93080" y="3990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20720" y="3990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ECCF-6FBE-4D41-9AA1-D1B70BD06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6508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65080" y="1841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CAFA-ABA5-4859-A6B3-4C5C470F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6508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65080" y="1841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47760" y="1841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DF65-C195-4F5D-B839-CB00BF6D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6508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1B3E-5284-45A0-B671-4CB61524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65080" y="469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B80F-19E5-4708-932B-C1401CA2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6508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65080" y="1841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47760" y="1841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65080" y="3990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EF31-515E-4A61-A0B4-73F9CC58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6508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65080" y="1841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47760" y="1841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47760" y="3990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275F-6D1A-4DF6-A518-7C3E9B45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6508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65080" y="1841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47760" y="1841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65080" y="3990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7D97-AF13-4E81-A746-F1158E34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6508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65080" y="1841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65080" y="61088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03360" y="61088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2360" y="61088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9BD5-F8DD-4A65-AE1A-0A4B9894173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41360" y="492120"/>
            <a:ext cx="8670960" cy="85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0"/>
          <p:cNvSpPr/>
          <p:nvPr/>
        </p:nvSpPr>
        <p:spPr>
          <a:xfrm flipV="1">
            <a:off x="9112320" y="15480"/>
            <a:ext cx="1440" cy="167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1"/>
          <p:cNvSpPr/>
          <p:nvPr/>
        </p:nvSpPr>
        <p:spPr>
          <a:xfrm>
            <a:off x="5054760" y="0"/>
            <a:ext cx="4089240" cy="380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Biología y Geología 4º E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4448160" y="0"/>
            <a:ext cx="611280" cy="3808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3"/>
          <p:cNvSpPr/>
          <p:nvPr/>
        </p:nvSpPr>
        <p:spPr>
          <a:xfrm>
            <a:off x="0" y="0"/>
            <a:ext cx="4460760" cy="390600"/>
          </a:xfrm>
          <a:prstGeom prst="rect">
            <a:avLst/>
          </a:prstGeom>
          <a:solidFill>
            <a:srgbClr val="0ed4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GENÉTIC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Rectangle 14"/>
          <p:cNvSpPr/>
          <p:nvPr/>
        </p:nvSpPr>
        <p:spPr>
          <a:xfrm>
            <a:off x="0" y="333360"/>
            <a:ext cx="9144000" cy="201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8"/>
          <p:cNvSpPr/>
          <p:nvPr/>
        </p:nvSpPr>
        <p:spPr>
          <a:xfrm>
            <a:off x="441360" y="492120"/>
            <a:ext cx="8670960" cy="85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 flipV="1">
            <a:off x="9112320" y="15480"/>
            <a:ext cx="1440" cy="167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5054760" y="0"/>
            <a:ext cx="4089240" cy="380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Biología y Geología 4º E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4448160" y="0"/>
            <a:ext cx="611280" cy="3808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0" y="0"/>
            <a:ext cx="4460760" cy="390600"/>
          </a:xfrm>
          <a:prstGeom prst="rect">
            <a:avLst/>
          </a:prstGeom>
          <a:solidFill>
            <a:srgbClr val="0ed4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GENÉTIC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0" y="333360"/>
            <a:ext cx="9144000" cy="201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6508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865080" y="1841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42E9-2C6F-442C-9871-6BA77065E1D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../apuntes/celular/Celularmicrografias/microscopia.ppt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Times New Roman"/>
              </a:rPr>
              <a:t>LA HERENCIA BIOLÓGIC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79280" y="549360"/>
            <a:ext cx="85168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Arial"/>
              </a:rPr>
              <a:t>EL ADN JUNTO A SUS PROTEÍNAS SE ORGANIZA EN </a:t>
            </a:r>
            <a:r>
              <a:rPr b="1" lang="es-ES" sz="1800" spc="-1" strike="noStrike" u="sng">
                <a:solidFill>
                  <a:srgbClr val="cc3300"/>
                </a:solidFill>
                <a:uFillTx/>
                <a:latin typeface="Arial"/>
              </a:rPr>
              <a:t>CROMOSOMAS</a:t>
            </a:r>
            <a:r>
              <a:rPr b="1" lang="es-ES" sz="1800" spc="-1" strike="noStrike">
                <a:solidFill>
                  <a:srgbClr val="cc3300"/>
                </a:solidFill>
                <a:latin typeface="Arial"/>
              </a:rPr>
              <a:t> DURANTE LA DIVISIÓN CELULAR (POR ESPIRALIZACIÓN Y ACORTAMIENTO EN SU LONGITU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adn08.gif (38651 bytes)"/>
          <p:cNvPicPr/>
          <p:nvPr/>
        </p:nvPicPr>
        <p:blipFill>
          <a:blip r:embed="rId1"/>
          <a:stretch/>
        </p:blipFill>
        <p:spPr>
          <a:xfrm>
            <a:off x="324000" y="1125360"/>
            <a:ext cx="2352600" cy="5732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adn09.gif (61323 bytes)"/>
          <p:cNvPicPr/>
          <p:nvPr/>
        </p:nvPicPr>
        <p:blipFill>
          <a:blip r:embed="rId2"/>
          <a:stretch/>
        </p:blipFill>
        <p:spPr>
          <a:xfrm>
            <a:off x="2771640" y="1052640"/>
            <a:ext cx="6126120" cy="2352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adn10.gif (91095 bytes)"/>
          <p:cNvPicPr/>
          <p:nvPr/>
        </p:nvPicPr>
        <p:blipFill>
          <a:blip r:embed="rId3"/>
          <a:stretch/>
        </p:blipFill>
        <p:spPr>
          <a:xfrm>
            <a:off x="4067280" y="2924280"/>
            <a:ext cx="2493720" cy="3933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0"/>
          <p:cNvSpPr/>
          <p:nvPr/>
        </p:nvSpPr>
        <p:spPr>
          <a:xfrm>
            <a:off x="6443640" y="5589720"/>
            <a:ext cx="28796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UARTO NIVEL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Cromosoma”: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50.000 veces más cortos que toda la extensión de su DNA contenid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1"/>
          <p:cNvSpPr/>
          <p:nvPr/>
        </p:nvSpPr>
        <p:spPr>
          <a:xfrm flipV="1">
            <a:off x="2124000" y="3716280"/>
            <a:ext cx="503280" cy="1152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2"/>
          <p:cNvSpPr/>
          <p:nvPr/>
        </p:nvSpPr>
        <p:spPr>
          <a:xfrm flipV="1">
            <a:off x="2700360" y="2492280"/>
            <a:ext cx="216000" cy="64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3"/>
          <p:cNvSpPr/>
          <p:nvPr/>
        </p:nvSpPr>
        <p:spPr>
          <a:xfrm>
            <a:off x="6516720" y="3068640"/>
            <a:ext cx="792000" cy="1224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4"/>
          <p:cNvSpPr/>
          <p:nvPr/>
        </p:nvSpPr>
        <p:spPr>
          <a:xfrm>
            <a:off x="7451640" y="5013360"/>
            <a:ext cx="0" cy="64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romosomaultraestructuraesquemados"/>
          <p:cNvPicPr/>
          <p:nvPr/>
        </p:nvPicPr>
        <p:blipFill>
          <a:blip r:embed="rId1"/>
          <a:stretch/>
        </p:blipFill>
        <p:spPr>
          <a:xfrm>
            <a:off x="0" y="620640"/>
            <a:ext cx="39924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 flipH="1">
            <a:off x="5640480" y="2044800"/>
            <a:ext cx="1341360" cy="4584600"/>
          </a:xfrm>
          <a:custGeom>
            <a:avLst/>
            <a:gdLst/>
            <a:ahLst/>
            <a:rect l="l" t="t" r="r" b="b"/>
            <a:pathLst>
              <a:path w="916" h="2888">
                <a:moveTo>
                  <a:pt x="861" y="814"/>
                </a:moveTo>
                <a:cubicBezTo>
                  <a:pt x="842" y="702"/>
                  <a:pt x="805" y="280"/>
                  <a:pt x="736" y="144"/>
                </a:cubicBezTo>
                <a:cubicBezTo>
                  <a:pt x="667" y="8"/>
                  <a:pt x="536" y="0"/>
                  <a:pt x="448" y="0"/>
                </a:cubicBezTo>
                <a:cubicBezTo>
                  <a:pt x="360" y="0"/>
                  <a:pt x="265" y="81"/>
                  <a:pt x="208" y="144"/>
                </a:cubicBezTo>
                <a:cubicBezTo>
                  <a:pt x="151" y="207"/>
                  <a:pt x="88" y="242"/>
                  <a:pt x="106" y="378"/>
                </a:cubicBezTo>
                <a:cubicBezTo>
                  <a:pt x="124" y="514"/>
                  <a:pt x="308" y="781"/>
                  <a:pt x="315" y="960"/>
                </a:cubicBezTo>
                <a:cubicBezTo>
                  <a:pt x="322" y="1139"/>
                  <a:pt x="201" y="1272"/>
                  <a:pt x="151" y="1451"/>
                </a:cubicBezTo>
                <a:cubicBezTo>
                  <a:pt x="101" y="1630"/>
                  <a:pt x="28" y="1835"/>
                  <a:pt x="15" y="2033"/>
                </a:cubicBezTo>
                <a:cubicBezTo>
                  <a:pt x="2" y="2231"/>
                  <a:pt x="0" y="2500"/>
                  <a:pt x="70" y="2642"/>
                </a:cubicBezTo>
                <a:cubicBezTo>
                  <a:pt x="140" y="2784"/>
                  <a:pt x="303" y="2886"/>
                  <a:pt x="433" y="2887"/>
                </a:cubicBezTo>
                <a:cubicBezTo>
                  <a:pt x="563" y="2888"/>
                  <a:pt x="786" y="2812"/>
                  <a:pt x="851" y="2651"/>
                </a:cubicBezTo>
                <a:cubicBezTo>
                  <a:pt x="916" y="2490"/>
                  <a:pt x="832" y="2143"/>
                  <a:pt x="824" y="1923"/>
                </a:cubicBezTo>
                <a:cubicBezTo>
                  <a:pt x="816" y="1703"/>
                  <a:pt x="797" y="1475"/>
                  <a:pt x="806" y="1333"/>
                </a:cubicBezTo>
                <a:cubicBezTo>
                  <a:pt x="815" y="1191"/>
                  <a:pt x="867" y="1113"/>
                  <a:pt x="879" y="1069"/>
                </a:cubicBezTo>
              </a:path>
            </a:pathLst>
          </a:custGeom>
          <a:solidFill>
            <a:srgbClr val="fbfeda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reeform 3"/>
          <p:cNvSpPr/>
          <p:nvPr/>
        </p:nvSpPr>
        <p:spPr>
          <a:xfrm>
            <a:off x="4514760" y="2025720"/>
            <a:ext cx="1222560" cy="4584600"/>
          </a:xfrm>
          <a:custGeom>
            <a:avLst/>
            <a:gdLst>
              <a:gd name="textAreaLeft" fmla="*/ 0 w 1222560"/>
              <a:gd name="textAreaRight" fmla="*/ 1222920 w 1222560"/>
              <a:gd name="textAreaTop" fmla="*/ 0 h 4584600"/>
              <a:gd name="textAreaBottom" fmla="*/ 4584600 h 4584600"/>
            </a:gdLst>
            <a:ahLst/>
            <a:rect l="textAreaLeft" t="textAreaTop" r="textAreaRight" b="textAreaBottom"/>
            <a:pathLst>
              <a:path w="916" h="2888">
                <a:moveTo>
                  <a:pt x="861" y="814"/>
                </a:moveTo>
                <a:cubicBezTo>
                  <a:pt x="842" y="702"/>
                  <a:pt x="805" y="280"/>
                  <a:pt x="736" y="144"/>
                </a:cubicBezTo>
                <a:cubicBezTo>
                  <a:pt x="667" y="8"/>
                  <a:pt x="536" y="0"/>
                  <a:pt x="448" y="0"/>
                </a:cubicBezTo>
                <a:cubicBezTo>
                  <a:pt x="360" y="0"/>
                  <a:pt x="265" y="81"/>
                  <a:pt x="208" y="144"/>
                </a:cubicBezTo>
                <a:cubicBezTo>
                  <a:pt x="151" y="207"/>
                  <a:pt x="88" y="242"/>
                  <a:pt x="106" y="378"/>
                </a:cubicBezTo>
                <a:cubicBezTo>
                  <a:pt x="124" y="514"/>
                  <a:pt x="308" y="781"/>
                  <a:pt x="315" y="960"/>
                </a:cubicBezTo>
                <a:cubicBezTo>
                  <a:pt x="322" y="1139"/>
                  <a:pt x="201" y="1272"/>
                  <a:pt x="151" y="1451"/>
                </a:cubicBezTo>
                <a:cubicBezTo>
                  <a:pt x="101" y="1630"/>
                  <a:pt x="28" y="1835"/>
                  <a:pt x="15" y="2033"/>
                </a:cubicBezTo>
                <a:cubicBezTo>
                  <a:pt x="2" y="2231"/>
                  <a:pt x="0" y="2500"/>
                  <a:pt x="70" y="2642"/>
                </a:cubicBezTo>
                <a:cubicBezTo>
                  <a:pt x="140" y="2784"/>
                  <a:pt x="303" y="2886"/>
                  <a:pt x="433" y="2887"/>
                </a:cubicBezTo>
                <a:cubicBezTo>
                  <a:pt x="563" y="2888"/>
                  <a:pt x="786" y="2812"/>
                  <a:pt x="851" y="2651"/>
                </a:cubicBezTo>
                <a:cubicBezTo>
                  <a:pt x="916" y="2490"/>
                  <a:pt x="832" y="2143"/>
                  <a:pt x="824" y="1923"/>
                </a:cubicBezTo>
                <a:cubicBezTo>
                  <a:pt x="816" y="1703"/>
                  <a:pt x="797" y="1475"/>
                  <a:pt x="806" y="1333"/>
                </a:cubicBezTo>
                <a:cubicBezTo>
                  <a:pt x="815" y="1191"/>
                  <a:pt x="867" y="1113"/>
                  <a:pt x="879" y="1069"/>
                </a:cubicBezTo>
              </a:path>
            </a:pathLst>
          </a:custGeom>
          <a:solidFill>
            <a:srgbClr val="e9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405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structura del cromosoma metafás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5" descr="t8-9a"/>
          <p:cNvPicPr/>
          <p:nvPr/>
        </p:nvPicPr>
        <p:blipFill>
          <a:blip r:embed="rId1"/>
          <a:stretch/>
        </p:blipFill>
        <p:spPr>
          <a:xfrm>
            <a:off x="352440" y="2666880"/>
            <a:ext cx="1752480" cy="2819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t9-b"/>
          <p:cNvPicPr/>
          <p:nvPr/>
        </p:nvPicPr>
        <p:blipFill>
          <a:blip r:embed="rId2"/>
          <a:stretch/>
        </p:blipFill>
        <p:spPr>
          <a:xfrm>
            <a:off x="4726080" y="2287440"/>
            <a:ext cx="1938240" cy="40197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7"/>
          <p:cNvSpPr/>
          <p:nvPr/>
        </p:nvSpPr>
        <p:spPr>
          <a:xfrm>
            <a:off x="492120" y="1247760"/>
            <a:ext cx="815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cromosoma metafásico está constituido por dos cromátidas unidas por el centrómero que divide al cromosoma en dos braz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Group 8"/>
          <p:cNvGrpSpPr/>
          <p:nvPr/>
        </p:nvGrpSpPr>
        <p:grpSpPr>
          <a:xfrm>
            <a:off x="2700360" y="2349360"/>
            <a:ext cx="2447640" cy="1081080"/>
            <a:chOff x="2700360" y="2349360"/>
            <a:chExt cx="2447640" cy="1081080"/>
          </a:xfrm>
        </p:grpSpPr>
        <p:sp>
          <p:nvSpPr>
            <p:cNvPr id="135" name="Freeform 9"/>
            <p:cNvSpPr/>
            <p:nvPr/>
          </p:nvSpPr>
          <p:spPr>
            <a:xfrm>
              <a:off x="3720240" y="2349360"/>
              <a:ext cx="1427760" cy="1081080"/>
            </a:xfrm>
            <a:custGeom>
              <a:avLst/>
              <a:gdLst>
                <a:gd name="textAreaLeft" fmla="*/ 0 w 1427760"/>
                <a:gd name="textAreaRight" fmla="*/ 1428120 w 1427760"/>
                <a:gd name="textAreaTop" fmla="*/ 0 h 1081080"/>
                <a:gd name="textAreaBottom" fmla="*/ 1081440 h 1081080"/>
              </a:gdLst>
              <a:ahLst/>
              <a:rect l="textAreaLeft" t="textAreaTop" r="textAreaRight" b="textAreaBottom"/>
              <a:pathLst>
                <a:path w="672" h="720">
                  <a:moveTo>
                    <a:pt x="672" y="0"/>
                  </a:moveTo>
                  <a:lnTo>
                    <a:pt x="0" y="0"/>
                  </a:lnTo>
                  <a:lnTo>
                    <a:pt x="0" y="720"/>
                  </a:lnTo>
                  <a:lnTo>
                    <a:pt x="672" y="720"/>
                  </a:lnTo>
                </a:path>
              </a:pathLst>
            </a:custGeom>
            <a:noFill/>
            <a:ln w="1260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10"/>
            <p:cNvSpPr/>
            <p:nvPr/>
          </p:nvSpPr>
          <p:spPr>
            <a:xfrm>
              <a:off x="2700360" y="2771640"/>
              <a:ext cx="1122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cc99"/>
                  </a:solidFill>
                  <a:latin typeface="Arial"/>
                </a:rPr>
                <a:t>BRAZ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Group 11"/>
          <p:cNvGrpSpPr/>
          <p:nvPr/>
        </p:nvGrpSpPr>
        <p:grpSpPr>
          <a:xfrm>
            <a:off x="3059280" y="3583080"/>
            <a:ext cx="2088720" cy="2743200"/>
            <a:chOff x="3059280" y="3583080"/>
            <a:chExt cx="2088720" cy="2743200"/>
          </a:xfrm>
        </p:grpSpPr>
        <p:sp>
          <p:nvSpPr>
            <p:cNvPr id="138" name="Freeform 12"/>
            <p:cNvSpPr/>
            <p:nvPr/>
          </p:nvSpPr>
          <p:spPr>
            <a:xfrm>
              <a:off x="3929760" y="3583080"/>
              <a:ext cx="1218240" cy="2743200"/>
            </a:xfrm>
            <a:custGeom>
              <a:avLst/>
              <a:gdLst>
                <a:gd name="textAreaLeft" fmla="*/ 0 w 1218240"/>
                <a:gd name="textAreaRight" fmla="*/ 1218600 w 1218240"/>
                <a:gd name="textAreaTop" fmla="*/ 0 h 2743200"/>
                <a:gd name="textAreaBottom" fmla="*/ 2743560 h 2743200"/>
              </a:gdLst>
              <a:ahLst/>
              <a:rect l="textAreaLeft" t="textAreaTop" r="textAreaRight" b="textAreaBottom"/>
              <a:pathLst>
                <a:path w="672" h="720">
                  <a:moveTo>
                    <a:pt x="672" y="0"/>
                  </a:moveTo>
                  <a:lnTo>
                    <a:pt x="0" y="0"/>
                  </a:lnTo>
                  <a:lnTo>
                    <a:pt x="0" y="720"/>
                  </a:lnTo>
                  <a:lnTo>
                    <a:pt x="672" y="720"/>
                  </a:lnTo>
                </a:path>
              </a:pathLst>
            </a:custGeom>
            <a:noFill/>
            <a:ln w="1260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Text Box 13"/>
            <p:cNvSpPr/>
            <p:nvPr/>
          </p:nvSpPr>
          <p:spPr>
            <a:xfrm>
              <a:off x="3059280" y="4800960"/>
              <a:ext cx="95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cc99"/>
                  </a:solidFill>
                  <a:latin typeface="Arial"/>
                </a:rPr>
                <a:t>BRAZ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Group 14"/>
          <p:cNvGrpSpPr/>
          <p:nvPr/>
        </p:nvGrpSpPr>
        <p:grpSpPr>
          <a:xfrm>
            <a:off x="6132600" y="2819880"/>
            <a:ext cx="1828440" cy="686880"/>
            <a:chOff x="6132600" y="2819880"/>
            <a:chExt cx="1828440" cy="686880"/>
          </a:xfrm>
        </p:grpSpPr>
        <p:sp>
          <p:nvSpPr>
            <p:cNvPr id="141" name="Text Box 15"/>
            <p:cNvSpPr/>
            <p:nvPr/>
          </p:nvSpPr>
          <p:spPr>
            <a:xfrm>
              <a:off x="6906240" y="2819880"/>
              <a:ext cx="1054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inetoco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16"/>
            <p:cNvSpPr/>
            <p:nvPr/>
          </p:nvSpPr>
          <p:spPr>
            <a:xfrm flipV="1">
              <a:off x="6132600" y="2973240"/>
              <a:ext cx="84384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Group 17"/>
          <p:cNvGrpSpPr/>
          <p:nvPr/>
        </p:nvGrpSpPr>
        <p:grpSpPr>
          <a:xfrm>
            <a:off x="5148360" y="1713600"/>
            <a:ext cx="1125360" cy="1715400"/>
            <a:chOff x="5148360" y="1713600"/>
            <a:chExt cx="1125360" cy="1715400"/>
          </a:xfrm>
        </p:grpSpPr>
        <p:sp>
          <p:nvSpPr>
            <p:cNvPr id="144" name="Text Box 18"/>
            <p:cNvSpPr/>
            <p:nvPr/>
          </p:nvSpPr>
          <p:spPr>
            <a:xfrm>
              <a:off x="5148360" y="1713600"/>
              <a:ext cx="112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entróm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19"/>
            <p:cNvSpPr/>
            <p:nvPr/>
          </p:nvSpPr>
          <p:spPr>
            <a:xfrm>
              <a:off x="5711040" y="1981080"/>
              <a:ext cx="0" cy="144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Group 20"/>
          <p:cNvGrpSpPr/>
          <p:nvPr/>
        </p:nvGrpSpPr>
        <p:grpSpPr>
          <a:xfrm>
            <a:off x="1763640" y="3213000"/>
            <a:ext cx="3173040" cy="1017360"/>
            <a:chOff x="1763640" y="3213000"/>
            <a:chExt cx="3173040" cy="1017360"/>
          </a:xfrm>
        </p:grpSpPr>
        <p:sp>
          <p:nvSpPr>
            <p:cNvPr id="147" name="Text Box 21"/>
            <p:cNvSpPr/>
            <p:nvPr/>
          </p:nvSpPr>
          <p:spPr>
            <a:xfrm>
              <a:off x="1763640" y="3710160"/>
              <a:ext cx="1665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onstricciones secundari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22"/>
            <p:cNvSpPr/>
            <p:nvPr/>
          </p:nvSpPr>
          <p:spPr>
            <a:xfrm flipH="1">
              <a:off x="3350520" y="3213000"/>
              <a:ext cx="1586160" cy="66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23"/>
            <p:cNvSpPr/>
            <p:nvPr/>
          </p:nvSpPr>
          <p:spPr>
            <a:xfrm flipH="1">
              <a:off x="3270600" y="3877560"/>
              <a:ext cx="166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Group 24"/>
          <p:cNvGrpSpPr/>
          <p:nvPr/>
        </p:nvGrpSpPr>
        <p:grpSpPr>
          <a:xfrm>
            <a:off x="6413400" y="5941080"/>
            <a:ext cx="2190600" cy="307080"/>
            <a:chOff x="6413400" y="5941080"/>
            <a:chExt cx="2190600" cy="307080"/>
          </a:xfrm>
        </p:grpSpPr>
        <p:sp>
          <p:nvSpPr>
            <p:cNvPr id="151" name="Text Box 25"/>
            <p:cNvSpPr/>
            <p:nvPr/>
          </p:nvSpPr>
          <p:spPr>
            <a:xfrm>
              <a:off x="7408080" y="5941080"/>
              <a:ext cx="119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Telóm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26"/>
            <p:cNvSpPr/>
            <p:nvPr/>
          </p:nvSpPr>
          <p:spPr>
            <a:xfrm>
              <a:off x="6413400" y="6103440"/>
              <a:ext cx="1103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Group 27"/>
          <p:cNvGrpSpPr/>
          <p:nvPr/>
        </p:nvGrpSpPr>
        <p:grpSpPr>
          <a:xfrm>
            <a:off x="2897280" y="4648320"/>
            <a:ext cx="2109600" cy="1372680"/>
            <a:chOff x="2897280" y="4648320"/>
            <a:chExt cx="2109600" cy="1372680"/>
          </a:xfrm>
        </p:grpSpPr>
        <p:sp>
          <p:nvSpPr>
            <p:cNvPr id="154" name="Text Box 28"/>
            <p:cNvSpPr/>
            <p:nvPr/>
          </p:nvSpPr>
          <p:spPr>
            <a:xfrm>
              <a:off x="2897280" y="5713920"/>
              <a:ext cx="1054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Ban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Group 29"/>
            <p:cNvGrpSpPr/>
            <p:nvPr/>
          </p:nvGrpSpPr>
          <p:grpSpPr>
            <a:xfrm>
              <a:off x="3741120" y="4648320"/>
              <a:ext cx="1265760" cy="1218960"/>
              <a:chOff x="3741120" y="4648320"/>
              <a:chExt cx="1265760" cy="1218960"/>
            </a:xfrm>
          </p:grpSpPr>
          <p:sp>
            <p:nvSpPr>
              <p:cNvPr id="156" name="Line 30"/>
              <p:cNvSpPr/>
              <p:nvPr/>
            </p:nvSpPr>
            <p:spPr>
              <a:xfrm flipH="1">
                <a:off x="3741120" y="4648320"/>
                <a:ext cx="126576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31"/>
              <p:cNvSpPr/>
              <p:nvPr/>
            </p:nvSpPr>
            <p:spPr>
              <a:xfrm flipH="1">
                <a:off x="3741120" y="5181480"/>
                <a:ext cx="126576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" name="AutoShape 32"/>
          <p:cNvSpPr/>
          <p:nvPr/>
        </p:nvSpPr>
        <p:spPr>
          <a:xfrm>
            <a:off x="2320920" y="4419720"/>
            <a:ext cx="633240" cy="533160"/>
          </a:xfrm>
          <a:prstGeom prst="rightArrow">
            <a:avLst>
              <a:gd name="adj1" fmla="val 66074"/>
              <a:gd name="adj2" fmla="val 62311"/>
            </a:avLst>
          </a:prstGeom>
          <a:gradFill rotWithShape="0">
            <a:gsLst>
              <a:gs pos="0">
                <a:srgbClr val="ffff66"/>
              </a:gs>
              <a:gs pos="100000">
                <a:srgbClr val="3333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Número de cromoso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492120" y="1231200"/>
            <a:ext cx="837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5400" indent="-95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 constante en todas las células que pertenecen a un mismo organismo, excepto en las células reproductoras o gametos, que contienen la mitad de cromosomas que una célula norm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492120" y="1794240"/>
            <a:ext cx="647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 mayoría de organismos tienen dos juegos de cromosomas (diploide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492120" y="2113200"/>
            <a:ext cx="590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o guarda relación con el nivel evolutivo alcanzado por la espec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6" descr="t8-9h"/>
          <p:cNvPicPr/>
          <p:nvPr/>
        </p:nvPicPr>
        <p:blipFill>
          <a:blip r:embed="rId1"/>
          <a:stretch/>
        </p:blipFill>
        <p:spPr>
          <a:xfrm>
            <a:off x="561960" y="3105000"/>
            <a:ext cx="2954520" cy="3372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t8-9f"/>
          <p:cNvPicPr/>
          <p:nvPr/>
        </p:nvPicPr>
        <p:blipFill>
          <a:blip r:embed="rId2"/>
          <a:stretch/>
        </p:blipFill>
        <p:spPr>
          <a:xfrm>
            <a:off x="4572000" y="3114720"/>
            <a:ext cx="3235320" cy="33573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598320" y="2616480"/>
            <a:ext cx="2883240" cy="52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ARIOTIPO HUMANO FEMEN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4572000" y="2723040"/>
            <a:ext cx="3235320" cy="307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ARIOTIPO HUMANO MASCUL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10"/>
          <p:cNvGrpSpPr/>
          <p:nvPr/>
        </p:nvGrpSpPr>
        <p:grpSpPr>
          <a:xfrm>
            <a:off x="2664000" y="5146920"/>
            <a:ext cx="1925280" cy="906120"/>
            <a:chOff x="2664000" y="5146920"/>
            <a:chExt cx="1925280" cy="906120"/>
          </a:xfrm>
        </p:grpSpPr>
        <p:grpSp>
          <p:nvGrpSpPr>
            <p:cNvPr id="168" name="Group 11"/>
            <p:cNvGrpSpPr/>
            <p:nvPr/>
          </p:nvGrpSpPr>
          <p:grpSpPr>
            <a:xfrm>
              <a:off x="2664000" y="5367240"/>
              <a:ext cx="1174680" cy="685800"/>
              <a:chOff x="2664000" y="5367240"/>
              <a:chExt cx="1174680" cy="685800"/>
            </a:xfrm>
          </p:grpSpPr>
          <p:sp>
            <p:nvSpPr>
              <p:cNvPr id="169" name="Oval 12"/>
              <p:cNvSpPr/>
              <p:nvPr/>
            </p:nvSpPr>
            <p:spPr>
              <a:xfrm>
                <a:off x="2664000" y="5367240"/>
                <a:ext cx="471600" cy="685800"/>
              </a:xfrm>
              <a:prstGeom prst="ellipse">
                <a:avLst/>
              </a:prstGeom>
              <a:noFill/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Line 13"/>
              <p:cNvSpPr/>
              <p:nvPr/>
            </p:nvSpPr>
            <p:spPr>
              <a:xfrm>
                <a:off x="3130920" y="5715000"/>
                <a:ext cx="707760" cy="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" name="Text Box 14"/>
            <p:cNvSpPr/>
            <p:nvPr/>
          </p:nvSpPr>
          <p:spPr>
            <a:xfrm>
              <a:off x="3409560" y="5146920"/>
              <a:ext cx="1179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romosomas sexuales</a:t>
              </a:r>
              <a:br>
                <a:rPr sz="1400"/>
              </a:b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X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Group 15"/>
          <p:cNvGrpSpPr/>
          <p:nvPr/>
        </p:nvGrpSpPr>
        <p:grpSpPr>
          <a:xfrm>
            <a:off x="6810480" y="5104080"/>
            <a:ext cx="2082240" cy="910800"/>
            <a:chOff x="6810480" y="5104080"/>
            <a:chExt cx="2082240" cy="910800"/>
          </a:xfrm>
        </p:grpSpPr>
        <p:sp>
          <p:nvSpPr>
            <p:cNvPr id="173" name="Oval 16"/>
            <p:cNvSpPr/>
            <p:nvPr/>
          </p:nvSpPr>
          <p:spPr>
            <a:xfrm>
              <a:off x="6810480" y="5329080"/>
              <a:ext cx="421560" cy="685800"/>
            </a:xfrm>
            <a:prstGeom prst="ellipse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17"/>
            <p:cNvSpPr/>
            <p:nvPr/>
          </p:nvSpPr>
          <p:spPr>
            <a:xfrm>
              <a:off x="7227720" y="5676840"/>
              <a:ext cx="8611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18"/>
            <p:cNvSpPr/>
            <p:nvPr/>
          </p:nvSpPr>
          <p:spPr>
            <a:xfrm>
              <a:off x="7737120" y="5104080"/>
              <a:ext cx="1155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romosomas sexuales</a:t>
              </a:r>
              <a:br>
                <a:rPr sz="1400"/>
              </a:b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X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AutoShape 21">
            <a:hlinkClick r:id="" action="ppaction://hlinkshowjump?jump=previousslide"/>
          </p:cNvPr>
          <p:cNvSpPr/>
          <p:nvPr/>
        </p:nvSpPr>
        <p:spPr>
          <a:xfrm>
            <a:off x="6248520" y="62485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22">
            <a:hlinkClick r:id="" action="ppaction://hlinkshowjump?jump=previousslide"/>
          </p:cNvPr>
          <p:cNvSpPr/>
          <p:nvPr/>
        </p:nvSpPr>
        <p:spPr>
          <a:xfrm>
            <a:off x="7010280" y="6248520"/>
            <a:ext cx="381240" cy="30456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32" h="21600">
                <a:moveTo>
                  <a:pt x="0" y="0"/>
                </a:moveTo>
                <a:lnTo>
                  <a:pt x="27032" y="0"/>
                </a:lnTo>
                <a:lnTo>
                  <a:pt x="27032" y="21600"/>
                </a:lnTo>
                <a:lnTo>
                  <a:pt x="0" y="21600"/>
                </a:lnTo>
                <a:close/>
              </a:path>
              <a:path fill="lightenLess" w="27032" h="21600">
                <a:moveTo>
                  <a:pt x="0" y="0"/>
                </a:moveTo>
                <a:lnTo>
                  <a:pt x="27032" y="0"/>
                </a:lnTo>
                <a:lnTo>
                  <a:pt x="25632" y="1400"/>
                </a:lnTo>
                <a:lnTo>
                  <a:pt x="1400" y="1400"/>
                </a:lnTo>
                <a:close/>
              </a:path>
              <a:path fill="darken" w="27032" h="21600">
                <a:moveTo>
                  <a:pt x="27032" y="0"/>
                </a:moveTo>
                <a:lnTo>
                  <a:pt x="27032" y="21600"/>
                </a:lnTo>
                <a:lnTo>
                  <a:pt x="25632" y="20200"/>
                </a:lnTo>
                <a:lnTo>
                  <a:pt x="25632" y="1400"/>
                </a:lnTo>
                <a:close/>
              </a:path>
              <a:path fill="darkenLess" w="27032" h="21600">
                <a:moveTo>
                  <a:pt x="270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32" y="20200"/>
                </a:lnTo>
                <a:close/>
              </a:path>
              <a:path fill="lighten" w="270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32" h="21600">
                <a:moveTo>
                  <a:pt x="6509" y="10800"/>
                </a:moveTo>
                <a:lnTo>
                  <a:pt x="20522" y="3794"/>
                </a:lnTo>
                <a:lnTo>
                  <a:pt x="20522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23">
            <a:hlinkClick r:id="" action="ppaction://hlinkshowjump?jump=nextslide"/>
          </p:cNvPr>
          <p:cNvSpPr/>
          <p:nvPr/>
        </p:nvSpPr>
        <p:spPr>
          <a:xfrm>
            <a:off x="8534520" y="62485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24">
            <a:hlinkClick r:id="" action="ppaction://hlinkshowjump?jump=previousslide"/>
          </p:cNvPr>
          <p:cNvSpPr/>
          <p:nvPr/>
        </p:nvSpPr>
        <p:spPr>
          <a:xfrm>
            <a:off x="5486400" y="6248520"/>
            <a:ext cx="533520" cy="30456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7819" h="21600">
                <a:moveTo>
                  <a:pt x="0" y="0"/>
                </a:moveTo>
                <a:lnTo>
                  <a:pt x="37819" y="0"/>
                </a:lnTo>
                <a:lnTo>
                  <a:pt x="37819" y="21600"/>
                </a:lnTo>
                <a:lnTo>
                  <a:pt x="0" y="21600"/>
                </a:lnTo>
                <a:close/>
              </a:path>
              <a:path fill="lightenLess" w="37819" h="21600">
                <a:moveTo>
                  <a:pt x="0" y="0"/>
                </a:moveTo>
                <a:lnTo>
                  <a:pt x="37819" y="0"/>
                </a:lnTo>
                <a:lnTo>
                  <a:pt x="36419" y="1400"/>
                </a:lnTo>
                <a:lnTo>
                  <a:pt x="1400" y="1400"/>
                </a:lnTo>
                <a:close/>
              </a:path>
              <a:path fill="darken" w="37819" h="21600">
                <a:moveTo>
                  <a:pt x="37819" y="0"/>
                </a:moveTo>
                <a:lnTo>
                  <a:pt x="37819" y="21600"/>
                </a:lnTo>
                <a:lnTo>
                  <a:pt x="36419" y="20200"/>
                </a:lnTo>
                <a:lnTo>
                  <a:pt x="36419" y="1400"/>
                </a:lnTo>
                <a:close/>
              </a:path>
              <a:path fill="darkenLess" w="37819" h="21600">
                <a:moveTo>
                  <a:pt x="378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19" y="20200"/>
                </a:lnTo>
                <a:close/>
              </a:path>
              <a:path fill="lighten" w="378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19" h="21600">
                <a:moveTo>
                  <a:pt x="15411" y="10800"/>
                </a:moveTo>
                <a:lnTo>
                  <a:pt x="25916" y="3794"/>
                </a:lnTo>
                <a:lnTo>
                  <a:pt x="25916" y="17806"/>
                </a:lnTo>
                <a:close/>
              </a:path>
              <a:path fill="darken" w="37819" h="21600">
                <a:moveTo>
                  <a:pt x="11903" y="3794"/>
                </a:moveTo>
                <a:lnTo>
                  <a:pt x="13565" y="3794"/>
                </a:lnTo>
                <a:lnTo>
                  <a:pt x="13565" y="17806"/>
                </a:lnTo>
                <a:lnTo>
                  <a:pt x="1190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25">
            <a:hlinkClick r:id="rId3" action="ppaction://hlinksldjump"/>
          </p:cNvPr>
          <p:cNvSpPr/>
          <p:nvPr/>
        </p:nvSpPr>
        <p:spPr>
          <a:xfrm>
            <a:off x="7772400" y="62485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LOS CROMOSO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18960" y="1219320"/>
            <a:ext cx="73911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número de cromosomas de cada especie es fi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la especie humana hay 23 parejas de cromosomas. 22 parejas son AUTOSOMAS y la pareja 23 son los CROMOSOMAS SEXU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 cromosoma de cada pareja proviene de cada uno de los progenitores (CROMOSOMAS HOMÓLOG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10" descr="T012421A"/>
          <p:cNvPicPr/>
          <p:nvPr/>
        </p:nvPicPr>
        <p:blipFill>
          <a:blip r:embed="rId1"/>
          <a:stretch/>
        </p:blipFill>
        <p:spPr>
          <a:xfrm>
            <a:off x="2438280" y="3886200"/>
            <a:ext cx="492300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Object 4"/>
          <p:cNvGraphicFramePr/>
          <p:nvPr/>
        </p:nvGraphicFramePr>
        <p:xfrm>
          <a:off x="1763640" y="476280"/>
          <a:ext cx="5616720" cy="638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476280"/>
                    <a:ext cx="5616720" cy="63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cromosomasXYmicro"/>
          <p:cNvPicPr/>
          <p:nvPr/>
        </p:nvPicPr>
        <p:blipFill>
          <a:blip r:embed="rId1"/>
          <a:stretch/>
        </p:blipFill>
        <p:spPr>
          <a:xfrm>
            <a:off x="0" y="549360"/>
            <a:ext cx="4838760" cy="52578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3"/>
          <p:cNvSpPr/>
          <p:nvPr/>
        </p:nvSpPr>
        <p:spPr>
          <a:xfrm>
            <a:off x="4788000" y="620640"/>
            <a:ext cx="40320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romosomas X 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T14-1e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2400480"/>
            <a:ext cx="6705720" cy="34383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66520" y="46944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c3300"/>
                </a:solidFill>
                <a:latin typeface="Arial"/>
              </a:rPr>
              <a:t>El ciclo celu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4"/>
          <p:cNvSpPr/>
          <p:nvPr/>
        </p:nvSpPr>
        <p:spPr>
          <a:xfrm>
            <a:off x="5029200" y="4237200"/>
            <a:ext cx="2023920" cy="906480"/>
          </a:xfrm>
          <a:custGeom>
            <a:avLst/>
            <a:gdLst>
              <a:gd name="textAreaLeft" fmla="*/ 0 w 2023920"/>
              <a:gd name="textAreaRight" fmla="*/ 2024280 w 202392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1434" h="642">
                <a:moveTo>
                  <a:pt x="1254" y="0"/>
                </a:moveTo>
                <a:lnTo>
                  <a:pt x="1434" y="30"/>
                </a:lnTo>
                <a:lnTo>
                  <a:pt x="1374" y="126"/>
                </a:lnTo>
                <a:cubicBezTo>
                  <a:pt x="1333" y="165"/>
                  <a:pt x="1252" y="224"/>
                  <a:pt x="1188" y="264"/>
                </a:cubicBezTo>
                <a:cubicBezTo>
                  <a:pt x="1124" y="304"/>
                  <a:pt x="1059" y="335"/>
                  <a:pt x="990" y="366"/>
                </a:cubicBezTo>
                <a:cubicBezTo>
                  <a:pt x="921" y="397"/>
                  <a:pt x="850" y="425"/>
                  <a:pt x="774" y="450"/>
                </a:cubicBezTo>
                <a:cubicBezTo>
                  <a:pt x="698" y="475"/>
                  <a:pt x="584" y="501"/>
                  <a:pt x="534" y="516"/>
                </a:cubicBezTo>
                <a:cubicBezTo>
                  <a:pt x="484" y="531"/>
                  <a:pt x="466" y="519"/>
                  <a:pt x="474" y="540"/>
                </a:cubicBezTo>
                <a:lnTo>
                  <a:pt x="582" y="642"/>
                </a:lnTo>
                <a:lnTo>
                  <a:pt x="0" y="540"/>
                </a:lnTo>
                <a:lnTo>
                  <a:pt x="246" y="324"/>
                </a:lnTo>
                <a:lnTo>
                  <a:pt x="354" y="432"/>
                </a:lnTo>
                <a:cubicBezTo>
                  <a:pt x="401" y="443"/>
                  <a:pt x="466" y="407"/>
                  <a:pt x="528" y="390"/>
                </a:cubicBezTo>
                <a:cubicBezTo>
                  <a:pt x="590" y="373"/>
                  <a:pt x="660" y="353"/>
                  <a:pt x="726" y="330"/>
                </a:cubicBezTo>
                <a:cubicBezTo>
                  <a:pt x="792" y="307"/>
                  <a:pt x="867" y="280"/>
                  <a:pt x="924" y="252"/>
                </a:cubicBezTo>
                <a:cubicBezTo>
                  <a:pt x="981" y="224"/>
                  <a:pt x="1023" y="193"/>
                  <a:pt x="1068" y="162"/>
                </a:cubicBezTo>
                <a:cubicBezTo>
                  <a:pt x="1113" y="131"/>
                  <a:pt x="1163" y="93"/>
                  <a:pt x="1194" y="66"/>
                </a:cubicBezTo>
                <a:cubicBezTo>
                  <a:pt x="1225" y="39"/>
                  <a:pt x="1242" y="14"/>
                  <a:pt x="1254" y="0"/>
                </a:cubicBezTo>
                <a:close/>
              </a:path>
            </a:pathLst>
          </a:custGeom>
          <a:solidFill>
            <a:srgbClr val="cc99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reeform 5"/>
          <p:cNvSpPr/>
          <p:nvPr/>
        </p:nvSpPr>
        <p:spPr>
          <a:xfrm>
            <a:off x="2514600" y="4229280"/>
            <a:ext cx="1135080" cy="685800"/>
          </a:xfrm>
          <a:custGeom>
            <a:avLst/>
            <a:gdLst>
              <a:gd name="textAreaLeft" fmla="*/ 0 w 1135080"/>
              <a:gd name="textAreaRight" fmla="*/ 1135440 w 11350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858" h="545">
                <a:moveTo>
                  <a:pt x="858" y="426"/>
                </a:moveTo>
                <a:lnTo>
                  <a:pt x="762" y="534"/>
                </a:lnTo>
                <a:cubicBezTo>
                  <a:pt x="722" y="545"/>
                  <a:pt x="668" y="511"/>
                  <a:pt x="618" y="492"/>
                </a:cubicBezTo>
                <a:cubicBezTo>
                  <a:pt x="568" y="473"/>
                  <a:pt x="510" y="448"/>
                  <a:pt x="462" y="420"/>
                </a:cubicBezTo>
                <a:cubicBezTo>
                  <a:pt x="414" y="392"/>
                  <a:pt x="374" y="356"/>
                  <a:pt x="330" y="324"/>
                </a:cubicBezTo>
                <a:lnTo>
                  <a:pt x="198" y="228"/>
                </a:lnTo>
                <a:lnTo>
                  <a:pt x="0" y="288"/>
                </a:lnTo>
                <a:lnTo>
                  <a:pt x="108" y="0"/>
                </a:lnTo>
                <a:lnTo>
                  <a:pt x="558" y="120"/>
                </a:lnTo>
                <a:lnTo>
                  <a:pt x="366" y="174"/>
                </a:lnTo>
                <a:cubicBezTo>
                  <a:pt x="348" y="195"/>
                  <a:pt x="418" y="221"/>
                  <a:pt x="450" y="246"/>
                </a:cubicBezTo>
                <a:cubicBezTo>
                  <a:pt x="482" y="271"/>
                  <a:pt x="518" y="305"/>
                  <a:pt x="558" y="326"/>
                </a:cubicBezTo>
                <a:cubicBezTo>
                  <a:pt x="598" y="347"/>
                  <a:pt x="640" y="355"/>
                  <a:pt x="690" y="372"/>
                </a:cubicBezTo>
                <a:lnTo>
                  <a:pt x="858" y="426"/>
                </a:lnTo>
                <a:close/>
              </a:path>
            </a:pathLst>
          </a:custGeom>
          <a:solidFill>
            <a:srgbClr val="cc99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6"/>
          <p:cNvSpPr/>
          <p:nvPr/>
        </p:nvSpPr>
        <p:spPr>
          <a:xfrm>
            <a:off x="2438280" y="3352680"/>
            <a:ext cx="490680" cy="292320"/>
          </a:xfrm>
          <a:custGeom>
            <a:avLst/>
            <a:gdLst>
              <a:gd name="textAreaLeft" fmla="*/ 0 w 490680"/>
              <a:gd name="textAreaRight" fmla="*/ 491040 w 49068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348" h="207">
                <a:moveTo>
                  <a:pt x="198" y="207"/>
                </a:moveTo>
                <a:lnTo>
                  <a:pt x="51" y="192"/>
                </a:lnTo>
                <a:lnTo>
                  <a:pt x="120" y="90"/>
                </a:lnTo>
                <a:lnTo>
                  <a:pt x="0" y="63"/>
                </a:lnTo>
                <a:lnTo>
                  <a:pt x="273" y="0"/>
                </a:lnTo>
                <a:lnTo>
                  <a:pt x="348" y="150"/>
                </a:lnTo>
                <a:lnTo>
                  <a:pt x="234" y="120"/>
                </a:lnTo>
                <a:lnTo>
                  <a:pt x="198" y="207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reeform 7"/>
          <p:cNvSpPr/>
          <p:nvPr/>
        </p:nvSpPr>
        <p:spPr>
          <a:xfrm>
            <a:off x="2590920" y="2346480"/>
            <a:ext cx="591840" cy="434880"/>
          </a:xfrm>
          <a:custGeom>
            <a:avLst/>
            <a:gdLst>
              <a:gd name="textAreaLeft" fmla="*/ 0 w 591840"/>
              <a:gd name="textAreaRight" fmla="*/ 592200 w 59184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420" h="309">
                <a:moveTo>
                  <a:pt x="276" y="126"/>
                </a:moveTo>
                <a:lnTo>
                  <a:pt x="420" y="129"/>
                </a:lnTo>
                <a:lnTo>
                  <a:pt x="303" y="0"/>
                </a:lnTo>
                <a:lnTo>
                  <a:pt x="0" y="111"/>
                </a:lnTo>
                <a:lnTo>
                  <a:pt x="159" y="114"/>
                </a:lnTo>
                <a:lnTo>
                  <a:pt x="3" y="309"/>
                </a:lnTo>
                <a:lnTo>
                  <a:pt x="168" y="309"/>
                </a:lnTo>
                <a:lnTo>
                  <a:pt x="276" y="12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8"/>
          <p:cNvSpPr/>
          <p:nvPr/>
        </p:nvSpPr>
        <p:spPr>
          <a:xfrm>
            <a:off x="3429000" y="2933640"/>
            <a:ext cx="673200" cy="304920"/>
          </a:xfrm>
          <a:custGeom>
            <a:avLst/>
            <a:gdLst>
              <a:gd name="textAreaLeft" fmla="*/ 0 w 673200"/>
              <a:gd name="textAreaRight" fmla="*/ 673560 w 673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531" h="180">
                <a:moveTo>
                  <a:pt x="243" y="0"/>
                </a:moveTo>
                <a:lnTo>
                  <a:pt x="294" y="48"/>
                </a:lnTo>
                <a:lnTo>
                  <a:pt x="0" y="117"/>
                </a:lnTo>
                <a:lnTo>
                  <a:pt x="90" y="180"/>
                </a:lnTo>
                <a:lnTo>
                  <a:pt x="354" y="102"/>
                </a:lnTo>
                <a:lnTo>
                  <a:pt x="423" y="168"/>
                </a:lnTo>
                <a:lnTo>
                  <a:pt x="531" y="21"/>
                </a:lnTo>
                <a:lnTo>
                  <a:pt x="243" y="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reeform 9"/>
          <p:cNvSpPr/>
          <p:nvPr/>
        </p:nvSpPr>
        <p:spPr>
          <a:xfrm>
            <a:off x="4724280" y="2963880"/>
            <a:ext cx="1836720" cy="426960"/>
          </a:xfrm>
          <a:custGeom>
            <a:avLst/>
            <a:gdLst>
              <a:gd name="textAreaLeft" fmla="*/ 0 w 1836720"/>
              <a:gd name="textAreaRight" fmla="*/ 1837080 w 183672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1302" h="303">
                <a:moveTo>
                  <a:pt x="9" y="60"/>
                </a:moveTo>
                <a:lnTo>
                  <a:pt x="0" y="0"/>
                </a:lnTo>
                <a:lnTo>
                  <a:pt x="183" y="0"/>
                </a:lnTo>
                <a:lnTo>
                  <a:pt x="372" y="12"/>
                </a:lnTo>
                <a:lnTo>
                  <a:pt x="615" y="48"/>
                </a:lnTo>
                <a:lnTo>
                  <a:pt x="780" y="84"/>
                </a:lnTo>
                <a:lnTo>
                  <a:pt x="984" y="138"/>
                </a:lnTo>
                <a:lnTo>
                  <a:pt x="1131" y="183"/>
                </a:lnTo>
                <a:lnTo>
                  <a:pt x="1221" y="138"/>
                </a:lnTo>
                <a:lnTo>
                  <a:pt x="1302" y="303"/>
                </a:lnTo>
                <a:lnTo>
                  <a:pt x="921" y="282"/>
                </a:lnTo>
                <a:lnTo>
                  <a:pt x="1020" y="231"/>
                </a:lnTo>
                <a:lnTo>
                  <a:pt x="888" y="183"/>
                </a:lnTo>
                <a:lnTo>
                  <a:pt x="699" y="129"/>
                </a:lnTo>
                <a:lnTo>
                  <a:pt x="555" y="102"/>
                </a:lnTo>
                <a:lnTo>
                  <a:pt x="306" y="66"/>
                </a:lnTo>
                <a:lnTo>
                  <a:pt x="9" y="6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1371600" y="2117880"/>
            <a:ext cx="914400" cy="3362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ase G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3429000" y="2003760"/>
            <a:ext cx="914400" cy="3362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ase G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2"/>
          <p:cNvSpPr/>
          <p:nvPr/>
        </p:nvSpPr>
        <p:spPr>
          <a:xfrm>
            <a:off x="4572000" y="3286080"/>
            <a:ext cx="360" cy="285840"/>
          </a:xfrm>
          <a:prstGeom prst="rect">
            <a:avLst/>
          </a:prstGeom>
          <a:solidFill>
            <a:srgbClr val="8769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3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8d6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4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93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997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6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9f8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7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a587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8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ab8d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9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b19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20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b79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21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bd9f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22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c3a5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3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c9ab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24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cfb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25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d5b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26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dbb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27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e1c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8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e7c9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29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edc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30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edc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31"/>
          <p:cNvSpPr/>
          <p:nvPr/>
        </p:nvSpPr>
        <p:spPr>
          <a:xfrm>
            <a:off x="4572000" y="3286080"/>
            <a:ext cx="360" cy="285840"/>
          </a:xfrm>
          <a:prstGeom prst="rect">
            <a:avLst/>
          </a:prstGeom>
          <a:solidFill>
            <a:srgbClr val="8769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32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8d6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33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93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34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997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35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9f8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36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a587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37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ab8d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38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b19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39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b79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40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bd9f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41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c3a5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42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c9ab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43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cfb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44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d5b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45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dbb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46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e1c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47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e7c9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48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edc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49"/>
          <p:cNvSpPr/>
          <p:nvPr/>
        </p:nvSpPr>
        <p:spPr>
          <a:xfrm>
            <a:off x="4572000" y="3286080"/>
            <a:ext cx="360" cy="360"/>
          </a:xfrm>
          <a:prstGeom prst="rect">
            <a:avLst/>
          </a:prstGeom>
          <a:solidFill>
            <a:srgbClr val="edc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50"/>
          <p:cNvSpPr/>
          <p:nvPr/>
        </p:nvSpPr>
        <p:spPr>
          <a:xfrm>
            <a:off x="4410000" y="3324240"/>
            <a:ext cx="360" cy="181080"/>
          </a:xfrm>
          <a:prstGeom prst="rect">
            <a:avLst/>
          </a:prstGeom>
          <a:solidFill>
            <a:srgbClr val="8769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51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8d6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52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93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53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997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54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9f8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55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a587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56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ab8d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57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b19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58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b79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59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bd9f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60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c3a5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61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c9ab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62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cfb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63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d5b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64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dbb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65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e1c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66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e7c9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67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edc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68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edc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69"/>
          <p:cNvSpPr/>
          <p:nvPr/>
        </p:nvSpPr>
        <p:spPr>
          <a:xfrm>
            <a:off x="4410000" y="3324240"/>
            <a:ext cx="360" cy="181080"/>
          </a:xfrm>
          <a:prstGeom prst="rect">
            <a:avLst/>
          </a:prstGeom>
          <a:solidFill>
            <a:srgbClr val="8769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70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8d6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71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93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72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997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73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9f8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74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a587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75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ab8d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76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b19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77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b79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78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bd9f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79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c3a5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80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c9ab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81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cfb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82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d5b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83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dbb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84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e1c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85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e7c9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86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edc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87"/>
          <p:cNvSpPr/>
          <p:nvPr/>
        </p:nvSpPr>
        <p:spPr>
          <a:xfrm>
            <a:off x="4410000" y="3324240"/>
            <a:ext cx="360" cy="360"/>
          </a:xfrm>
          <a:prstGeom prst="rect">
            <a:avLst/>
          </a:prstGeom>
          <a:solidFill>
            <a:srgbClr val="edc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Group 88"/>
          <p:cNvGrpSpPr/>
          <p:nvPr/>
        </p:nvGrpSpPr>
        <p:grpSpPr>
          <a:xfrm>
            <a:off x="533520" y="1332360"/>
            <a:ext cx="2361960" cy="953280"/>
            <a:chOff x="533520" y="1332360"/>
            <a:chExt cx="2361960" cy="953280"/>
          </a:xfrm>
        </p:grpSpPr>
        <p:sp>
          <p:nvSpPr>
            <p:cNvPr id="275" name="Text Box 89"/>
            <p:cNvSpPr/>
            <p:nvPr/>
          </p:nvSpPr>
          <p:spPr>
            <a:xfrm>
              <a:off x="533520" y="1332360"/>
              <a:ext cx="2361960" cy="641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Fase permanente en células que no entran nunca en mitosis. Estado de quiescencia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Freeform 90"/>
            <p:cNvSpPr/>
            <p:nvPr/>
          </p:nvSpPr>
          <p:spPr>
            <a:xfrm>
              <a:off x="685800" y="1981080"/>
              <a:ext cx="685800" cy="30456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432" h="192">
                  <a:moveTo>
                    <a:pt x="0" y="0"/>
                  </a:moveTo>
                  <a:lnTo>
                    <a:pt x="0" y="192"/>
                  </a:lnTo>
                  <a:lnTo>
                    <a:pt x="432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Group 91"/>
          <p:cNvGrpSpPr/>
          <p:nvPr/>
        </p:nvGrpSpPr>
        <p:grpSpPr>
          <a:xfrm>
            <a:off x="4347720" y="1467360"/>
            <a:ext cx="2358000" cy="704520"/>
            <a:chOff x="4347720" y="1467360"/>
            <a:chExt cx="2358000" cy="704520"/>
          </a:xfrm>
        </p:grpSpPr>
        <p:sp>
          <p:nvSpPr>
            <p:cNvPr id="278" name="Freeform 92"/>
            <p:cNvSpPr/>
            <p:nvPr/>
          </p:nvSpPr>
          <p:spPr>
            <a:xfrm flipH="1">
              <a:off x="4347360" y="1866960"/>
              <a:ext cx="685800" cy="304920"/>
            </a:xfrm>
            <a:custGeom>
              <a:avLst/>
              <a:gdLst>
                <a:gd name="textAreaLeft" fmla="*/ -360 w 685800"/>
                <a:gd name="textAreaRight" fmla="*/ 685800 w 68580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432" h="192">
                  <a:moveTo>
                    <a:pt x="0" y="0"/>
                  </a:moveTo>
                  <a:lnTo>
                    <a:pt x="0" y="192"/>
                  </a:lnTo>
                  <a:lnTo>
                    <a:pt x="432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Text Box 93"/>
            <p:cNvSpPr/>
            <p:nvPr/>
          </p:nvSpPr>
          <p:spPr>
            <a:xfrm>
              <a:off x="4572000" y="1467360"/>
              <a:ext cx="2133720" cy="459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Síntesis de proteínas y aumento del tamaño celul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Group 94"/>
          <p:cNvGrpSpPr/>
          <p:nvPr/>
        </p:nvGrpSpPr>
        <p:grpSpPr>
          <a:xfrm>
            <a:off x="6700680" y="2365920"/>
            <a:ext cx="2133720" cy="834480"/>
            <a:chOff x="6700680" y="2365920"/>
            <a:chExt cx="2133720" cy="834480"/>
          </a:xfrm>
        </p:grpSpPr>
        <p:sp>
          <p:nvSpPr>
            <p:cNvPr id="281" name="Line 95"/>
            <p:cNvSpPr/>
            <p:nvPr/>
          </p:nvSpPr>
          <p:spPr>
            <a:xfrm flipV="1">
              <a:off x="8381880" y="27432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Text Box 96"/>
            <p:cNvSpPr/>
            <p:nvPr/>
          </p:nvSpPr>
          <p:spPr>
            <a:xfrm>
              <a:off x="6700680" y="2365920"/>
              <a:ext cx="2133720" cy="459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Replicación del ADN y síntesis de histona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97"/>
          <p:cNvGrpSpPr/>
          <p:nvPr/>
        </p:nvGrpSpPr>
        <p:grpSpPr>
          <a:xfrm>
            <a:off x="685800" y="5790240"/>
            <a:ext cx="3505320" cy="641520"/>
            <a:chOff x="685800" y="5790240"/>
            <a:chExt cx="3505320" cy="641520"/>
          </a:xfrm>
        </p:grpSpPr>
        <p:sp>
          <p:nvSpPr>
            <p:cNvPr id="284" name="Line 98"/>
            <p:cNvSpPr/>
            <p:nvPr/>
          </p:nvSpPr>
          <p:spPr>
            <a:xfrm>
              <a:off x="3581280" y="601992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99"/>
            <p:cNvSpPr/>
            <p:nvPr/>
          </p:nvSpPr>
          <p:spPr>
            <a:xfrm>
              <a:off x="685800" y="5790240"/>
              <a:ext cx="2971800" cy="641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Transcripción y traducción de genes que codifican proteínas necesarias para la división. Duplicación de los centrio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Group 100"/>
          <p:cNvGrpSpPr/>
          <p:nvPr/>
        </p:nvGrpSpPr>
        <p:grpSpPr>
          <a:xfrm>
            <a:off x="380880" y="4419720"/>
            <a:ext cx="1295640" cy="681840"/>
            <a:chOff x="380880" y="4419720"/>
            <a:chExt cx="1295640" cy="681840"/>
          </a:xfrm>
        </p:grpSpPr>
        <p:sp>
          <p:nvSpPr>
            <p:cNvPr id="287" name="Line 101"/>
            <p:cNvSpPr/>
            <p:nvPr/>
          </p:nvSpPr>
          <p:spPr>
            <a:xfrm flipV="1">
              <a:off x="762120" y="441972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Text Box 102"/>
            <p:cNvSpPr/>
            <p:nvPr/>
          </p:nvSpPr>
          <p:spPr>
            <a:xfrm>
              <a:off x="380880" y="4825080"/>
              <a:ext cx="1295640" cy="276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División celul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Text Box 103"/>
          <p:cNvSpPr/>
          <p:nvPr/>
        </p:nvSpPr>
        <p:spPr>
          <a:xfrm>
            <a:off x="609480" y="4037400"/>
            <a:ext cx="914400" cy="52020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ase de mito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Group 104"/>
          <p:cNvGrpSpPr/>
          <p:nvPr/>
        </p:nvGrpSpPr>
        <p:grpSpPr>
          <a:xfrm>
            <a:off x="380880" y="2971800"/>
            <a:ext cx="1067040" cy="758160"/>
            <a:chOff x="380880" y="2971800"/>
            <a:chExt cx="1067040" cy="758160"/>
          </a:xfrm>
        </p:grpSpPr>
        <p:sp>
          <p:nvSpPr>
            <p:cNvPr id="291" name="Line 105"/>
            <p:cNvSpPr/>
            <p:nvPr/>
          </p:nvSpPr>
          <p:spPr>
            <a:xfrm flipV="1">
              <a:off x="1295280" y="29718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106"/>
            <p:cNvSpPr/>
            <p:nvPr/>
          </p:nvSpPr>
          <p:spPr>
            <a:xfrm>
              <a:off x="380880" y="3270960"/>
              <a:ext cx="1067040" cy="459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División del citoplas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Text Box 107"/>
          <p:cNvSpPr/>
          <p:nvPr/>
        </p:nvSpPr>
        <p:spPr>
          <a:xfrm>
            <a:off x="1066680" y="2742120"/>
            <a:ext cx="1143000" cy="30708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itoci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08"/>
          <p:cNvSpPr/>
          <p:nvPr/>
        </p:nvSpPr>
        <p:spPr>
          <a:xfrm>
            <a:off x="7924680" y="3161160"/>
            <a:ext cx="762120" cy="30708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ase 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Group 109"/>
          <p:cNvGrpSpPr/>
          <p:nvPr/>
        </p:nvGrpSpPr>
        <p:grpSpPr>
          <a:xfrm>
            <a:off x="4267080" y="3695760"/>
            <a:ext cx="1262160" cy="549000"/>
            <a:chOff x="4267080" y="3695760"/>
            <a:chExt cx="1262160" cy="549000"/>
          </a:xfrm>
        </p:grpSpPr>
        <p:grpSp>
          <p:nvGrpSpPr>
            <p:cNvPr id="296" name="Group 110"/>
            <p:cNvGrpSpPr/>
            <p:nvPr/>
          </p:nvGrpSpPr>
          <p:grpSpPr>
            <a:xfrm>
              <a:off x="4267080" y="3695760"/>
              <a:ext cx="1218960" cy="549000"/>
              <a:chOff x="4267080" y="3695760"/>
              <a:chExt cx="1218960" cy="549000"/>
            </a:xfrm>
          </p:grpSpPr>
          <p:sp>
            <p:nvSpPr>
              <p:cNvPr id="297" name="Oval 111"/>
              <p:cNvSpPr/>
              <p:nvPr/>
            </p:nvSpPr>
            <p:spPr>
              <a:xfrm>
                <a:off x="4268520" y="3695760"/>
                <a:ext cx="1216080" cy="549000"/>
              </a:xfrm>
              <a:prstGeom prst="ellipse">
                <a:avLst/>
              </a:prstGeom>
              <a:solidFill>
                <a:srgbClr val="7fc5f9"/>
              </a:solidFill>
              <a:ln w="6480">
                <a:solidFill>
                  <a:srgbClr val="7fc5f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98" name="Picture 112" descr="2"/>
              <p:cNvPicPr/>
              <p:nvPr/>
            </p:nvPicPr>
            <p:blipFill>
              <a:blip r:embed="rId3"/>
              <a:stretch/>
            </p:blipFill>
            <p:spPr>
              <a:xfrm>
                <a:off x="4267080" y="3698640"/>
                <a:ext cx="1218960" cy="5414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99" name="Text Box 113"/>
            <p:cNvSpPr/>
            <p:nvPr/>
          </p:nvSpPr>
          <p:spPr>
            <a:xfrm>
              <a:off x="4767120" y="385200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f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Text Box 114"/>
          <p:cNvSpPr/>
          <p:nvPr/>
        </p:nvSpPr>
        <p:spPr>
          <a:xfrm>
            <a:off x="4038480" y="5851800"/>
            <a:ext cx="1067040" cy="3362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ase G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15"/>
          <p:cNvSpPr/>
          <p:nvPr/>
        </p:nvSpPr>
        <p:spPr>
          <a:xfrm>
            <a:off x="5724360" y="5276880"/>
            <a:ext cx="341964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G1: 4 HO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S: 9 HO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G2: 4 HO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MITOSIS: 1 H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mitosisenelciclocelularesquema"/>
          <p:cNvPicPr/>
          <p:nvPr/>
        </p:nvPicPr>
        <p:blipFill>
          <a:blip r:embed="rId1"/>
          <a:stretch/>
        </p:blipFill>
        <p:spPr>
          <a:xfrm>
            <a:off x="0" y="907920"/>
            <a:ext cx="5724360" cy="481824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9"/>
          <p:cNvSpPr/>
          <p:nvPr/>
        </p:nvSpPr>
        <p:spPr>
          <a:xfrm>
            <a:off x="5686560" y="620640"/>
            <a:ext cx="3457440" cy="2556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ASES CICLO CELULAR 18 HOR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G1: 4 HO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S: 9 HO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G2: 4 HO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ITOSIS: 1 HO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mitosisanimadadibujo"/>
          <p:cNvPicPr/>
          <p:nvPr/>
        </p:nvPicPr>
        <p:blipFill>
          <a:blip r:embed="rId1"/>
          <a:stretch/>
        </p:blipFill>
        <p:spPr>
          <a:xfrm>
            <a:off x="1692360" y="728640"/>
            <a:ext cx="6129360" cy="61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6508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producción y herencia biológ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65080" y="1841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ncepto de especie: especie es un grupo de organismos que pueden reproducirse entre ellos y cuyos descendientes son fért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aracteres: características que permiten distinguir a un individuo de otro. Ojos, pelo, altura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mitosisesquemauno"/>
          <p:cNvPicPr/>
          <p:nvPr/>
        </p:nvPicPr>
        <p:blipFill>
          <a:blip r:embed="rId1"/>
          <a:stretch/>
        </p:blipFill>
        <p:spPr>
          <a:xfrm>
            <a:off x="1332000" y="620640"/>
            <a:ext cx="6011640" cy="31323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" descr="mitosisesquemados"/>
          <p:cNvPicPr/>
          <p:nvPr/>
        </p:nvPicPr>
        <p:blipFill>
          <a:blip r:embed="rId2"/>
          <a:stretch/>
        </p:blipFill>
        <p:spPr>
          <a:xfrm>
            <a:off x="1187280" y="3851280"/>
            <a:ext cx="610416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mitosisesquematres"/>
          <p:cNvPicPr/>
          <p:nvPr/>
        </p:nvPicPr>
        <p:blipFill>
          <a:blip r:embed="rId1"/>
          <a:stretch/>
        </p:blipFill>
        <p:spPr>
          <a:xfrm>
            <a:off x="1547640" y="981000"/>
            <a:ext cx="6126480" cy="30639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mitosisesquemacuatro"/>
          <p:cNvPicPr/>
          <p:nvPr/>
        </p:nvPicPr>
        <p:blipFill>
          <a:blip r:embed="rId2"/>
          <a:stretch/>
        </p:blipFill>
        <p:spPr>
          <a:xfrm>
            <a:off x="2484360" y="4354560"/>
            <a:ext cx="482292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mitosisraizcebollafasesdosmicro"/>
          <p:cNvPicPr/>
          <p:nvPr/>
        </p:nvPicPr>
        <p:blipFill>
          <a:blip r:embed="rId1"/>
          <a:stretch/>
        </p:blipFill>
        <p:spPr>
          <a:xfrm>
            <a:off x="0" y="768240"/>
            <a:ext cx="9144000" cy="608976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10"/>
          <p:cNvSpPr/>
          <p:nvPr/>
        </p:nvSpPr>
        <p:spPr>
          <a:xfrm>
            <a:off x="0" y="620640"/>
            <a:ext cx="4876920" cy="825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ÉLULAS MITÓTICAS RAIZ CEBO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mitosisraizcebollageneralfoto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mitosisraizdecebollafasesmicro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mitosisraizcebollainterfasemicro"/>
          <p:cNvPicPr/>
          <p:nvPr/>
        </p:nvPicPr>
        <p:blipFill>
          <a:blip r:embed="rId1"/>
          <a:stretch/>
        </p:blipFill>
        <p:spPr>
          <a:xfrm>
            <a:off x="42840" y="549360"/>
            <a:ext cx="9101160" cy="539748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3"/>
          <p:cNvSpPr/>
          <p:nvPr/>
        </p:nvSpPr>
        <p:spPr>
          <a:xfrm>
            <a:off x="3708360" y="5950080"/>
            <a:ext cx="157968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terf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mitosisraizcebollaprofasetempranamicro"/>
          <p:cNvPicPr/>
          <p:nvPr/>
        </p:nvPicPr>
        <p:blipFill>
          <a:blip r:embed="rId1"/>
          <a:stretch/>
        </p:blipFill>
        <p:spPr>
          <a:xfrm>
            <a:off x="0" y="549360"/>
            <a:ext cx="9101160" cy="539748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3"/>
          <p:cNvSpPr/>
          <p:nvPr/>
        </p:nvSpPr>
        <p:spPr>
          <a:xfrm>
            <a:off x="2700360" y="6021360"/>
            <a:ext cx="27018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fase temp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mitosisraizcebollatardiamicro"/>
          <p:cNvPicPr/>
          <p:nvPr/>
        </p:nvPicPr>
        <p:blipFill>
          <a:blip r:embed="rId1"/>
          <a:stretch/>
        </p:blipFill>
        <p:spPr>
          <a:xfrm>
            <a:off x="0" y="549360"/>
            <a:ext cx="9101160" cy="539748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3"/>
          <p:cNvSpPr/>
          <p:nvPr/>
        </p:nvSpPr>
        <p:spPr>
          <a:xfrm>
            <a:off x="3059280" y="6021360"/>
            <a:ext cx="238284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fase tar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mitosisraizcebollametafasemicro"/>
          <p:cNvPicPr/>
          <p:nvPr/>
        </p:nvPicPr>
        <p:blipFill>
          <a:blip r:embed="rId1"/>
          <a:stretch/>
        </p:blipFill>
        <p:spPr>
          <a:xfrm>
            <a:off x="42840" y="549360"/>
            <a:ext cx="9101160" cy="539748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3"/>
          <p:cNvSpPr/>
          <p:nvPr/>
        </p:nvSpPr>
        <p:spPr>
          <a:xfrm>
            <a:off x="3635280" y="6021360"/>
            <a:ext cx="16560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etaf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mitosisraizcebollaanafasemicro"/>
          <p:cNvPicPr/>
          <p:nvPr/>
        </p:nvPicPr>
        <p:blipFill>
          <a:blip r:embed="rId1"/>
          <a:stretch/>
        </p:blipFill>
        <p:spPr>
          <a:xfrm>
            <a:off x="42840" y="549360"/>
            <a:ext cx="9101160" cy="539748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3"/>
          <p:cNvSpPr/>
          <p:nvPr/>
        </p:nvSpPr>
        <p:spPr>
          <a:xfrm>
            <a:off x="2050920" y="6093000"/>
            <a:ext cx="32418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nafase temp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6508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ariaciones continuas y discontínu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65080" y="1841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Variación discontínua:  si el carácter puede usarse para dividir a los miembros de una especie en dos o más grupos diferentes. Ej: grupos sanguíneos, huellas digi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3200" spc="-1" strike="noStrike">
                <a:solidFill>
                  <a:srgbClr val="ff0000"/>
                </a:solidFill>
                <a:latin typeface="Times New Roman"/>
              </a:rPr>
              <a:t>Son caracteres cualit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Variación contínua: si las diferencias que se aprecian entre unos individuos y otros son muy pequeñas y graduales. Ej: la altu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3200" spc="-1" strike="noStrike">
                <a:solidFill>
                  <a:srgbClr val="ff0000"/>
                </a:solidFill>
                <a:latin typeface="Times New Roman"/>
              </a:rPr>
              <a:t>Son caracteres cuantitativo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mitosisraizcebollaanafasetardia"/>
          <p:cNvPicPr/>
          <p:nvPr/>
        </p:nvPicPr>
        <p:blipFill>
          <a:blip r:embed="rId1"/>
          <a:stretch/>
        </p:blipFill>
        <p:spPr>
          <a:xfrm>
            <a:off x="0" y="549360"/>
            <a:ext cx="9101160" cy="539748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3"/>
          <p:cNvSpPr/>
          <p:nvPr/>
        </p:nvSpPr>
        <p:spPr>
          <a:xfrm>
            <a:off x="2700360" y="6093000"/>
            <a:ext cx="258588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nafase tar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mitosisraizcebollatelofasemicro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42268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3"/>
          <p:cNvSpPr/>
          <p:nvPr/>
        </p:nvSpPr>
        <p:spPr>
          <a:xfrm>
            <a:off x="4067280" y="6021360"/>
            <a:ext cx="12589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efof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mitosisraizcebollacelulashijasmicro"/>
          <p:cNvPicPr/>
          <p:nvPr/>
        </p:nvPicPr>
        <p:blipFill>
          <a:blip r:embed="rId1"/>
          <a:stretch/>
        </p:blipFill>
        <p:spPr>
          <a:xfrm>
            <a:off x="0" y="549360"/>
            <a:ext cx="9101160" cy="539748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3"/>
          <p:cNvSpPr/>
          <p:nvPr/>
        </p:nvSpPr>
        <p:spPr>
          <a:xfrm>
            <a:off x="3276720" y="6093000"/>
            <a:ext cx="19857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élulas hi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000000"/>
                </a:solidFill>
                <a:latin typeface="comic"/>
              </a:rPr>
              <a:t>MEIOSI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6508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Times New Roman"/>
              </a:rPr>
              <a:t>NECESIDAD DE LA MEI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865080" y="1841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s necesaria para mantener constante el número de cromosomas en las especies de reproducción sexu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ada persona es única. Como consecuencia de la formación de los gametos por meiosis y la posterior fecundación, cada individuo hereda al azar un conjunto de caracteres que lo hace ún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meiosispolenunomicro"/>
          <p:cNvPicPr/>
          <p:nvPr/>
        </p:nvPicPr>
        <p:blipFill>
          <a:blip r:embed="rId1"/>
          <a:stretch/>
        </p:blipFill>
        <p:spPr>
          <a:xfrm>
            <a:off x="0" y="549360"/>
            <a:ext cx="6732720" cy="629928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3"/>
          <p:cNvSpPr/>
          <p:nvPr/>
        </p:nvSpPr>
        <p:spPr>
          <a:xfrm>
            <a:off x="7164360" y="620640"/>
            <a:ext cx="1655640" cy="825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eiosis polen u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meiosispolendosmicro"/>
          <p:cNvPicPr/>
          <p:nvPr/>
        </p:nvPicPr>
        <p:blipFill>
          <a:blip r:embed="rId1"/>
          <a:stretch/>
        </p:blipFill>
        <p:spPr>
          <a:xfrm>
            <a:off x="1042920" y="549360"/>
            <a:ext cx="4079880" cy="600084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3"/>
          <p:cNvSpPr/>
          <p:nvPr/>
        </p:nvSpPr>
        <p:spPr>
          <a:xfrm>
            <a:off x="5292720" y="765000"/>
            <a:ext cx="2087640" cy="825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eiosis polen 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meiosispolenltresmicro"/>
          <p:cNvPicPr/>
          <p:nvPr/>
        </p:nvPicPr>
        <p:blipFill>
          <a:blip r:embed="rId1"/>
          <a:stretch/>
        </p:blipFill>
        <p:spPr>
          <a:xfrm>
            <a:off x="1763640" y="857160"/>
            <a:ext cx="3625920" cy="600084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3"/>
          <p:cNvSpPr/>
          <p:nvPr/>
        </p:nvSpPr>
        <p:spPr>
          <a:xfrm>
            <a:off x="6084720" y="836640"/>
            <a:ext cx="1800360" cy="825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eiosis polen 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eiosispolencuatromicro"/>
          <p:cNvPicPr/>
          <p:nvPr/>
        </p:nvPicPr>
        <p:blipFill>
          <a:blip r:embed="rId1"/>
          <a:stretch/>
        </p:blipFill>
        <p:spPr>
          <a:xfrm>
            <a:off x="1547640" y="620640"/>
            <a:ext cx="4550040" cy="514368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3"/>
          <p:cNvSpPr/>
          <p:nvPr/>
        </p:nvSpPr>
        <p:spPr>
          <a:xfrm>
            <a:off x="6227640" y="1413000"/>
            <a:ext cx="1513080" cy="1191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eiosis polen cua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meiosisesquemauno"/>
          <p:cNvPicPr/>
          <p:nvPr/>
        </p:nvPicPr>
        <p:blipFill>
          <a:blip r:embed="rId1"/>
          <a:stretch/>
        </p:blipFill>
        <p:spPr>
          <a:xfrm>
            <a:off x="1447920" y="228600"/>
            <a:ext cx="5978520" cy="31543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" descr="meiosisesquemados"/>
          <p:cNvPicPr/>
          <p:nvPr/>
        </p:nvPicPr>
        <p:blipFill>
          <a:blip r:embed="rId2"/>
          <a:stretch/>
        </p:blipFill>
        <p:spPr>
          <a:xfrm>
            <a:off x="1523880" y="3733920"/>
            <a:ext cx="59896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6508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ariaciones continuas y discontínu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65080" y="1841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Variación discontínua:  si el carácter puede usarse para dividir a los miembros de una especie en dos o más grupos diferentes. Ej: grupos sanguíneos, huellas digi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3200" spc="-1" strike="noStrike">
                <a:solidFill>
                  <a:srgbClr val="ff0000"/>
                </a:solidFill>
                <a:latin typeface="Times New Roman"/>
              </a:rPr>
              <a:t>Son caracteres cualit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Variación contínua: si las diferencias que se aprecian entre unos individuos y otros son muy pequeñas y graduales. Ej: la altu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3200" spc="-1" strike="noStrike">
                <a:solidFill>
                  <a:srgbClr val="ff0000"/>
                </a:solidFill>
                <a:latin typeface="Times New Roman"/>
              </a:rPr>
              <a:t>Son caracteres cuantitativo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meiosisesquematres"/>
          <p:cNvPicPr/>
          <p:nvPr/>
        </p:nvPicPr>
        <p:blipFill>
          <a:blip r:embed="rId1"/>
          <a:stretch/>
        </p:blipFill>
        <p:spPr>
          <a:xfrm>
            <a:off x="468360" y="549360"/>
            <a:ext cx="5761080" cy="30398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" descr="meiosisesquemacuatro"/>
          <p:cNvPicPr/>
          <p:nvPr/>
        </p:nvPicPr>
        <p:blipFill>
          <a:blip r:embed="rId2"/>
          <a:stretch/>
        </p:blipFill>
        <p:spPr>
          <a:xfrm>
            <a:off x="1908000" y="4005360"/>
            <a:ext cx="2994120" cy="22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meiosisesquemacinco"/>
          <p:cNvPicPr/>
          <p:nvPr/>
        </p:nvPicPr>
        <p:blipFill>
          <a:blip r:embed="rId1"/>
          <a:stretch/>
        </p:blipFill>
        <p:spPr>
          <a:xfrm>
            <a:off x="3276720" y="549360"/>
            <a:ext cx="2789280" cy="29368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meiosisesquemaseis"/>
          <p:cNvPicPr/>
          <p:nvPr/>
        </p:nvPicPr>
        <p:blipFill>
          <a:blip r:embed="rId2"/>
          <a:stretch/>
        </p:blipFill>
        <p:spPr>
          <a:xfrm>
            <a:off x="1403280" y="3716280"/>
            <a:ext cx="601200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meiosisesquemasiete"/>
          <p:cNvPicPr/>
          <p:nvPr/>
        </p:nvPicPr>
        <p:blipFill>
          <a:blip r:embed="rId1"/>
          <a:stretch/>
        </p:blipFill>
        <p:spPr>
          <a:xfrm>
            <a:off x="611280" y="1197000"/>
            <a:ext cx="739116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2362320" y="2819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2133720" y="5335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996633"/>
                </a:solidFill>
                <a:latin typeface="Times New Roman"/>
              </a:rPr>
              <a:t>Clonación y Células Mad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380880" y="1447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259092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Embriogén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1447920" y="22096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cund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5029200" y="2971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Tipos de Clo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8"/>
          <p:cNvSpPr/>
          <p:nvPr/>
        </p:nvSpPr>
        <p:spPr>
          <a:xfrm>
            <a:off x="4952880" y="35053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licaciones de la Clo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9"/>
          <p:cNvSpPr/>
          <p:nvPr/>
        </p:nvSpPr>
        <p:spPr>
          <a:xfrm>
            <a:off x="5029200" y="44197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Tipos de Células Mad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5029200" y="51814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licación de las Células Mad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AutoShape 13"/>
          <p:cNvSpPr/>
          <p:nvPr/>
        </p:nvSpPr>
        <p:spPr>
          <a:xfrm rot="19513800">
            <a:off x="1143000" y="198108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AutoShape 16"/>
          <p:cNvSpPr/>
          <p:nvPr/>
        </p:nvSpPr>
        <p:spPr>
          <a:xfrm rot="19513800">
            <a:off x="2209680" y="2742840"/>
            <a:ext cx="381240" cy="685800"/>
          </a:xfrm>
          <a:custGeom>
            <a:avLst/>
            <a:gdLst>
              <a:gd name="textAreaLeft" fmla="*/ 51120 w 381240"/>
              <a:gd name="textAreaRight" fmla="*/ 330120 w 38124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2514600" y="2314440"/>
            <a:ext cx="4114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6633"/>
                </a:solidFill>
                <a:latin typeface="Times New Roman"/>
              </a:rPr>
              <a:t>Clonación Reproduc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996633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996633"/>
                </a:solidFill>
                <a:latin typeface="Times New Roman"/>
              </a:rPr>
              <a:t>Clonación Terapéu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3429000" y="3049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996633"/>
                </a:solidFill>
                <a:latin typeface="Times New Roman"/>
              </a:rPr>
              <a:t>Clo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4"/>
          <p:cNvSpPr/>
          <p:nvPr/>
        </p:nvSpPr>
        <p:spPr>
          <a:xfrm rot="19513800">
            <a:off x="2133720" y="220968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AutoShape 5"/>
          <p:cNvSpPr/>
          <p:nvPr/>
        </p:nvSpPr>
        <p:spPr>
          <a:xfrm rot="19513800">
            <a:off x="2286000" y="380988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3"/>
          <p:cNvSpPr/>
          <p:nvPr/>
        </p:nvSpPr>
        <p:spPr>
          <a:xfrm>
            <a:off x="3429000" y="3049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996633"/>
                </a:solidFill>
                <a:latin typeface="Times New Roman"/>
              </a:rPr>
              <a:t>Defini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Group 7"/>
          <p:cNvGrpSpPr/>
          <p:nvPr/>
        </p:nvGrpSpPr>
        <p:grpSpPr>
          <a:xfrm>
            <a:off x="1219320" y="5715000"/>
            <a:ext cx="5333760" cy="459720"/>
            <a:chOff x="1219320" y="5715000"/>
            <a:chExt cx="5333760" cy="459720"/>
          </a:xfrm>
        </p:grpSpPr>
        <p:sp>
          <p:nvSpPr>
            <p:cNvPr id="365" name="Text Box 4"/>
            <p:cNvSpPr/>
            <p:nvPr/>
          </p:nvSpPr>
          <p:spPr>
            <a:xfrm>
              <a:off x="1752480" y="5715000"/>
              <a:ext cx="48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 u="sng">
                  <a:solidFill>
                    <a:srgbClr val="ffffcc"/>
                  </a:solidFill>
                  <a:uFillTx/>
                  <a:latin typeface="Times New Roman"/>
                </a:rPr>
                <a:t>Reproducción Artificial Asexu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AutoShape 5"/>
            <p:cNvSpPr/>
            <p:nvPr/>
          </p:nvSpPr>
          <p:spPr>
            <a:xfrm>
              <a:off x="1219320" y="5867280"/>
              <a:ext cx="838080" cy="228600"/>
            </a:xfrm>
            <a:prstGeom prst="rightArrow">
              <a:avLst>
                <a:gd name="adj1" fmla="val 50000"/>
                <a:gd name="adj2" fmla="val 91654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Text Box 6"/>
          <p:cNvSpPr/>
          <p:nvPr/>
        </p:nvSpPr>
        <p:spPr>
          <a:xfrm>
            <a:off x="876240" y="836640"/>
            <a:ext cx="739152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cc99"/>
                </a:solidFill>
                <a:uFillTx/>
                <a:latin typeface="Times New Roman"/>
                <a:ea typeface="Times New Roman"/>
              </a:rPr>
              <a:t>¿Qué es la clonac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distintos contextos de la Biologí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nos referimos al ámbito de la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geniería Genétic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lonar es aislar y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ca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un tubo de ensay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determinado gen 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n general, un trozo de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imera acepción viene del griego brote para calificar cualquier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s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scendiente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endrado asexualment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in fecundación) y cuya información genética proviene de un solo progenitor, no de la combinación de los genes del padre y la madre.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una copia exacta de su origina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óg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Individuos genéticamente iguales. No constituye una manipulación genética ya que no existe alteración del ADN ni de los genes. El genoma permanece inta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"/>
          <p:cNvPicPr/>
          <p:nvPr/>
        </p:nvPicPr>
        <p:blipFill>
          <a:blip r:embed="rId1"/>
          <a:srcRect l="0" t="7698" r="0" b="0"/>
          <a:stretch/>
        </p:blipFill>
        <p:spPr>
          <a:xfrm>
            <a:off x="5486400" y="1371600"/>
            <a:ext cx="2743200" cy="23036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1CONCEP"/>
          <p:cNvPicPr/>
          <p:nvPr/>
        </p:nvPicPr>
        <p:blipFill>
          <a:blip r:embed="rId2"/>
          <a:srcRect l="0" t="9252" r="0" b="5564"/>
          <a:stretch/>
        </p:blipFill>
        <p:spPr>
          <a:xfrm>
            <a:off x="3200400" y="3657600"/>
            <a:ext cx="2265480" cy="297180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4"/>
          <p:cNvSpPr/>
          <p:nvPr/>
        </p:nvSpPr>
        <p:spPr>
          <a:xfrm>
            <a:off x="685800" y="373392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spermatozoides rumbo al ovoc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5638680" y="365760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spermatozoides sobre la pelúcida del ovoc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5486400" y="57913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egradación y penetración de la Zona Pelúcid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8"/>
          <p:cNvSpPr/>
          <p:nvPr/>
        </p:nvSpPr>
        <p:spPr>
          <a:xfrm>
            <a:off x="3429000" y="3049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996633"/>
                </a:solidFill>
                <a:latin typeface="Times New Roman"/>
              </a:rPr>
              <a:t>Fecund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Picture 9" descr=""/>
          <p:cNvPicPr/>
          <p:nvPr/>
        </p:nvPicPr>
        <p:blipFill>
          <a:blip r:embed="rId3"/>
          <a:srcRect l="0" t="6460" r="0" b="0"/>
          <a:stretch/>
        </p:blipFill>
        <p:spPr>
          <a:xfrm>
            <a:off x="609480" y="1306440"/>
            <a:ext cx="259092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2"/>
          <p:cNvSpPr/>
          <p:nvPr/>
        </p:nvSpPr>
        <p:spPr>
          <a:xfrm>
            <a:off x="5867280" y="2286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5105520" y="2514600"/>
            <a:ext cx="3429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Cigoto human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con dos pronúcleos antes de su Singamia (aún con la cubierta pelúcid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 las 26 hs el cigoto se dividirá en 2 cél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3429000" y="3049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996633"/>
                </a:solidFill>
                <a:latin typeface="Times New Roman"/>
              </a:rPr>
              <a:t>Fecund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5" descr="cigoto1"/>
          <p:cNvPicPr/>
          <p:nvPr/>
        </p:nvPicPr>
        <p:blipFill>
          <a:blip r:embed="rId1"/>
          <a:srcRect l="16437" t="4567" r="12331" b="5937"/>
          <a:stretch/>
        </p:blipFill>
        <p:spPr>
          <a:xfrm>
            <a:off x="838080" y="2057400"/>
            <a:ext cx="3962520" cy="373392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6"/>
          <p:cNvSpPr/>
          <p:nvPr/>
        </p:nvSpPr>
        <p:spPr>
          <a:xfrm>
            <a:off x="838080" y="2057400"/>
            <a:ext cx="3962520" cy="3733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5334120" y="2819520"/>
            <a:ext cx="2971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mbrión humano de 12 células (contiene 3 Blastóme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8 células a las 46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16 células a las 68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Picture 3" descr="embrion2"/>
          <p:cNvPicPr/>
          <p:nvPr/>
        </p:nvPicPr>
        <p:blipFill>
          <a:blip r:embed="rId1"/>
          <a:srcRect l="14850" t="11554" r="18815" b="10562"/>
          <a:stretch/>
        </p:blipFill>
        <p:spPr>
          <a:xfrm>
            <a:off x="685800" y="2057400"/>
            <a:ext cx="4419720" cy="389268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5"/>
          <p:cNvSpPr/>
          <p:nvPr/>
        </p:nvSpPr>
        <p:spPr>
          <a:xfrm>
            <a:off x="1638360" y="3049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996633"/>
                </a:solidFill>
                <a:latin typeface="Times New Roman"/>
              </a:rPr>
              <a:t>Fase Temprana de la Embriogén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685800" y="2057400"/>
            <a:ext cx="4419720" cy="3886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5DIA17"/>
          <p:cNvPicPr/>
          <p:nvPr/>
        </p:nvPicPr>
        <p:blipFill>
          <a:blip r:embed="rId1"/>
          <a:stretch/>
        </p:blipFill>
        <p:spPr>
          <a:xfrm>
            <a:off x="533520" y="1447920"/>
            <a:ext cx="2608200" cy="396216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3"/>
          <p:cNvSpPr/>
          <p:nvPr/>
        </p:nvSpPr>
        <p:spPr>
          <a:xfrm>
            <a:off x="3276720" y="1523880"/>
            <a:ext cx="358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Inducción neural de la Gástrula que genera la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laca Neural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 (primordio de la cuerda espinal y del cerebro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Picture 4" descr="6DIA28"/>
          <p:cNvPicPr/>
          <p:nvPr/>
        </p:nvPicPr>
        <p:blipFill>
          <a:blip r:embed="rId2"/>
          <a:stretch/>
        </p:blipFill>
        <p:spPr>
          <a:xfrm>
            <a:off x="3657600" y="3429000"/>
            <a:ext cx="2052720" cy="312408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5"/>
          <p:cNvSpPr/>
          <p:nvPr/>
        </p:nvSpPr>
        <p:spPr>
          <a:xfrm>
            <a:off x="5943600" y="3733920"/>
            <a:ext cx="3200400" cy="26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1° Mes: Esbozo de médula espinal, sistema nervioso, corazón, pulmones, estómago e intestin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es-MX" sz="2200" spc="-1" strike="noStrike" u="sng">
                <a:solidFill>
                  <a:srgbClr val="000000"/>
                </a:solidFill>
                <a:uFillTx/>
                <a:latin typeface="Times New Roman"/>
              </a:rPr>
              <a:t>Organogénesis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 dura hasta el 3° m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3314880" y="3049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996633"/>
                </a:solidFill>
                <a:latin typeface="Times New Roman"/>
              </a:rPr>
              <a:t>Embriogén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6508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ARACTERES HEREDITARIOS Y ADQUIR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65080" y="1841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. Hereditarios: se transmiten de generación en generación, aunque no aparecen necesariamente en todas las generaciones. Ej: color del pelo, piel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. adquiridos: no se transmiten a los descendientes. Aparecen durante la vida del individuo. Ej: desarrollo muscular, oscurecimiento de la piel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3" descr="gemelos"/>
          <p:cNvPicPr/>
          <p:nvPr/>
        </p:nvPicPr>
        <p:blipFill>
          <a:blip r:embed="rId1"/>
          <a:stretch/>
        </p:blipFill>
        <p:spPr>
          <a:xfrm>
            <a:off x="1219320" y="4114800"/>
            <a:ext cx="2089080" cy="243828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4"/>
          <p:cNvSpPr/>
          <p:nvPr/>
        </p:nvSpPr>
        <p:spPr>
          <a:xfrm>
            <a:off x="228600" y="1523880"/>
            <a:ext cx="8610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emelos monocigóticos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 univitelinos</a:t>
            </a:r>
            <a:r>
              <a:rPr b="1" lang="es-MX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idénticos):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originan por fisión de un embrión tempra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sa de 0.3 - 0.4%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imi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 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mados gemelos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idéntico sex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2857680" y="3049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Gemelos y mellizos</a:t>
            </a:r>
            <a:r>
              <a:rPr b="0" lang="es-ES" sz="28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2"/>
          <p:cNvSpPr/>
          <p:nvPr/>
        </p:nvSpPr>
        <p:spPr>
          <a:xfrm>
            <a:off x="266760" y="1447920"/>
            <a:ext cx="636264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emelos dicigóticos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 bivitelinos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(no idénticos)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originan por la fecundación de dos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más óvulos por distintos espermatozoid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sa de 0.6 - 1% nacimien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 heredabilidad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idencia de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es ambientales (nutrición, edad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tc.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 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mados mellizo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n de igual o        diferente sex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Group 8"/>
          <p:cNvGrpSpPr/>
          <p:nvPr/>
        </p:nvGrpSpPr>
        <p:grpSpPr>
          <a:xfrm>
            <a:off x="6019920" y="2133720"/>
            <a:ext cx="2438280" cy="3493440"/>
            <a:chOff x="6019920" y="2133720"/>
            <a:chExt cx="2438280" cy="3493440"/>
          </a:xfrm>
        </p:grpSpPr>
        <p:pic>
          <p:nvPicPr>
            <p:cNvPr id="394" name="Picture 3" descr="gemelos 2"/>
            <p:cNvPicPr/>
            <p:nvPr/>
          </p:nvPicPr>
          <p:blipFill>
            <a:blip r:embed="rId1"/>
            <a:stretch/>
          </p:blipFill>
          <p:spPr>
            <a:xfrm>
              <a:off x="6019920" y="2133720"/>
              <a:ext cx="2438280" cy="182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Picture 4" descr="mellizos"/>
            <p:cNvPicPr/>
            <p:nvPr/>
          </p:nvPicPr>
          <p:blipFill>
            <a:blip r:embed="rId2"/>
            <a:stretch/>
          </p:blipFill>
          <p:spPr>
            <a:xfrm>
              <a:off x="6019920" y="4038480"/>
              <a:ext cx="2438280" cy="1588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6" name="Text Box 7"/>
          <p:cNvSpPr/>
          <p:nvPr/>
        </p:nvSpPr>
        <p:spPr>
          <a:xfrm>
            <a:off x="2857680" y="3049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Gemelos y mellizos</a:t>
            </a:r>
            <a:r>
              <a:rPr b="0" lang="es-ES" sz="28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3"/>
          <p:cNvSpPr/>
          <p:nvPr/>
        </p:nvSpPr>
        <p:spPr>
          <a:xfrm>
            <a:off x="3429000" y="3049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996633"/>
                </a:solidFill>
                <a:latin typeface="Times New Roman"/>
              </a:rPr>
              <a:t>Clo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2895480" y="1600200"/>
            <a:ext cx="51818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ipos de Clon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Fines teóric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Clonación Reproducti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Clonación Terapéut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0" y="1143000"/>
            <a:ext cx="86868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cc"/>
                </a:solidFill>
                <a:latin typeface="Times New Roman"/>
              </a:rPr>
              <a:t>Partición (fisión) de embriones temprano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nalogía con la gemelación natural. Los individuos son muy semejantes entre sí, pero diferentes a sus padres. Es preferible emplear la expresión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Times New Roman"/>
              </a:rPr>
              <a:t>gemelación artificial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, y no debe considerarse como clonación en sentido estricto. 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Ocurre naturalmente en plantas e invertebrad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3009960" y="38088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6633"/>
                </a:solidFill>
                <a:latin typeface="Times New Roman"/>
              </a:rPr>
              <a:t>Tipos de clo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5"/>
          <p:cNvSpPr/>
          <p:nvPr/>
        </p:nvSpPr>
        <p:spPr>
          <a:xfrm>
            <a:off x="5105520" y="43434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Blastómero de 4 células totipo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Group 9"/>
          <p:cNvGrpSpPr/>
          <p:nvPr/>
        </p:nvGrpSpPr>
        <p:grpSpPr>
          <a:xfrm>
            <a:off x="1371600" y="3733920"/>
            <a:ext cx="3429000" cy="2818800"/>
            <a:chOff x="1371600" y="3733920"/>
            <a:chExt cx="3429000" cy="2818800"/>
          </a:xfrm>
        </p:grpSpPr>
        <p:pic>
          <p:nvPicPr>
            <p:cNvPr id="403" name="Picture 4" descr="embrion1"/>
            <p:cNvPicPr/>
            <p:nvPr/>
          </p:nvPicPr>
          <p:blipFill>
            <a:blip r:embed="rId1"/>
            <a:srcRect l="9165" t="8887" r="16669" b="10000"/>
            <a:stretch/>
          </p:blipFill>
          <p:spPr>
            <a:xfrm>
              <a:off x="1371600" y="3733920"/>
              <a:ext cx="3429000" cy="28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Line 6"/>
            <p:cNvSpPr/>
            <p:nvPr/>
          </p:nvSpPr>
          <p:spPr>
            <a:xfrm flipV="1">
              <a:off x="1752480" y="4190400"/>
              <a:ext cx="2819520" cy="13712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7"/>
            <p:cNvSpPr/>
            <p:nvPr/>
          </p:nvSpPr>
          <p:spPr>
            <a:xfrm>
              <a:off x="2209680" y="3733920"/>
              <a:ext cx="228600" cy="4568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8"/>
            <p:cNvSpPr/>
            <p:nvPr/>
          </p:nvSpPr>
          <p:spPr>
            <a:xfrm>
              <a:off x="3657600" y="6019560"/>
              <a:ext cx="380880" cy="53316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Rectangle 10"/>
          <p:cNvSpPr/>
          <p:nvPr/>
        </p:nvSpPr>
        <p:spPr>
          <a:xfrm>
            <a:off x="1371600" y="3733920"/>
            <a:ext cx="3429000" cy="281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3"/>
          <p:cNvSpPr/>
          <p:nvPr/>
        </p:nvSpPr>
        <p:spPr>
          <a:xfrm>
            <a:off x="0" y="1447920"/>
            <a:ext cx="86104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s-MX" sz="2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1" lang="es-ES" sz="2200" spc="-1" strike="noStrike">
                <a:solidFill>
                  <a:srgbClr val="ffffcc"/>
                </a:solidFill>
                <a:latin typeface="Times New Roman"/>
              </a:rPr>
              <a:t>Clonación verdadera: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2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Times New Roman"/>
              </a:rPr>
              <a:t>ransferencia de núcleos de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células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de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Times New Roman"/>
              </a:rPr>
              <a:t>individuos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ya nacidos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a óvulos o zigotos enucleados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. Se originan individuos casi idénticos entre sí (salvo mutaciones somáticas) y muy parecidos al donante (del que se diferencian en mutaciones somáticas y en el genoma mitocondrial, que procede del óvulo receptor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6"/>
          <p:cNvSpPr/>
          <p:nvPr/>
        </p:nvSpPr>
        <p:spPr>
          <a:xfrm>
            <a:off x="3009960" y="38088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6633"/>
                </a:solidFill>
                <a:latin typeface="Times New Roman"/>
              </a:rPr>
              <a:t>Tipos de clo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Group 10"/>
          <p:cNvGrpSpPr/>
          <p:nvPr/>
        </p:nvGrpSpPr>
        <p:grpSpPr>
          <a:xfrm>
            <a:off x="380880" y="3479760"/>
            <a:ext cx="8001000" cy="3100320"/>
            <a:chOff x="380880" y="3479760"/>
            <a:chExt cx="8001000" cy="3100320"/>
          </a:xfrm>
        </p:grpSpPr>
        <p:grpSp>
          <p:nvGrpSpPr>
            <p:cNvPr id="411" name="Group 8"/>
            <p:cNvGrpSpPr/>
            <p:nvPr/>
          </p:nvGrpSpPr>
          <p:grpSpPr>
            <a:xfrm>
              <a:off x="380880" y="3492360"/>
              <a:ext cx="8001000" cy="3087720"/>
              <a:chOff x="380880" y="3492360"/>
              <a:chExt cx="8001000" cy="3087720"/>
            </a:xfrm>
          </p:grpSpPr>
          <p:pic>
            <p:nvPicPr>
              <p:cNvPr id="412" name="Picture 4" descr="enucleationbw"/>
              <p:cNvPicPr/>
              <p:nvPr/>
            </p:nvPicPr>
            <p:blipFill>
              <a:blip r:embed="rId1"/>
              <a:stretch/>
            </p:blipFill>
            <p:spPr>
              <a:xfrm>
                <a:off x="380880" y="3492360"/>
                <a:ext cx="8001000" cy="156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3" name="Picture 5" descr="transferbw"/>
              <p:cNvPicPr/>
              <p:nvPr/>
            </p:nvPicPr>
            <p:blipFill>
              <a:blip r:embed="rId2"/>
              <a:stretch/>
            </p:blipFill>
            <p:spPr>
              <a:xfrm>
                <a:off x="380880" y="5016600"/>
                <a:ext cx="8001000" cy="1563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14" name="Rectangle 9"/>
            <p:cNvSpPr/>
            <p:nvPr/>
          </p:nvSpPr>
          <p:spPr>
            <a:xfrm>
              <a:off x="380880" y="3479760"/>
              <a:ext cx="8001000" cy="3073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266760" y="3049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6633"/>
                </a:solidFill>
                <a:latin typeface="Times New Roman"/>
              </a:rPr>
              <a:t>Fines (teóricamente posibles) de los tipos de clo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4800600" y="2133720"/>
            <a:ext cx="434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En humanos: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 Mejora de FIV                          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Gemelos separado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n el tiemp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152280" y="2133720"/>
            <a:ext cx="4800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En animales: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 Investigación Bás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ejora de FI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ejora de ferti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533520" y="1447920"/>
            <a:ext cx="525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00cc99"/>
                </a:solidFill>
                <a:uFillTx/>
                <a:latin typeface="Times New Roman"/>
              </a:rPr>
              <a:t>De la Gemelación Artificial</a:t>
            </a:r>
            <a:r>
              <a:rPr b="1" lang="es-ES" sz="2200" spc="-1" strike="noStrike" u="sng">
                <a:solidFill>
                  <a:srgbClr val="00cc99"/>
                </a:solidFill>
                <a:uFillTx/>
                <a:latin typeface="Times New Roman"/>
              </a:rPr>
              <a:t> ó </a:t>
            </a:r>
            <a:r>
              <a:rPr b="1" lang="es-MX" sz="2200" spc="-1" strike="noStrike" u="sng">
                <a:solidFill>
                  <a:srgbClr val="00cc99"/>
                </a:solidFill>
                <a:uFillTx/>
                <a:latin typeface="Times New Roman"/>
              </a:rPr>
              <a:t>Partició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8"/>
          <p:cNvSpPr/>
          <p:nvPr/>
        </p:nvSpPr>
        <p:spPr>
          <a:xfrm>
            <a:off x="4800600" y="4343400"/>
            <a:ext cx="4343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En humanos: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¿Investigación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ásica y aplicada?                           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Terapias para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nfermedad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itocondri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9"/>
          <p:cNvSpPr/>
          <p:nvPr/>
        </p:nvSpPr>
        <p:spPr>
          <a:xfrm>
            <a:off x="152280" y="4343400"/>
            <a:ext cx="213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0099"/>
                </a:solidFill>
                <a:latin typeface="Times New Roman"/>
              </a:rPr>
              <a:t>En animal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10"/>
          <p:cNvSpPr/>
          <p:nvPr/>
        </p:nvSpPr>
        <p:spPr>
          <a:xfrm>
            <a:off x="468360" y="3733920"/>
            <a:ext cx="5322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00cc99"/>
                </a:solidFill>
                <a:uFillTx/>
                <a:latin typeface="Times New Roman"/>
              </a:rPr>
              <a:t>De la Paraclonación</a:t>
            </a:r>
            <a:r>
              <a:rPr b="1" lang="es-ES_tradnl" sz="2200" spc="-1" strike="noStrike" u="sng">
                <a:solidFill>
                  <a:srgbClr val="ffffcc"/>
                </a:solidFill>
                <a:uFillTx/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11"/>
          <p:cNvSpPr/>
          <p:nvPr/>
        </p:nvSpPr>
        <p:spPr>
          <a:xfrm>
            <a:off x="152280" y="4343400"/>
            <a:ext cx="48006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En animales: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dividuos idéntico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ara investig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oducción ganade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Tejidos humaniz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ara xenotranspla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1035"/>
          <p:cNvSpPr/>
          <p:nvPr/>
        </p:nvSpPr>
        <p:spPr>
          <a:xfrm>
            <a:off x="533520" y="1219320"/>
            <a:ext cx="8153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olly fue desarrollada por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ilmut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col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boradores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Nature 385:810-813, 1997)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en el Instituto Roslin de Edinburgo, Esco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Picture 1036" descr="dolly-fig-13-13"/>
          <p:cNvPicPr/>
          <p:nvPr/>
        </p:nvPicPr>
        <p:blipFill>
          <a:blip r:embed="rId1"/>
          <a:stretch/>
        </p:blipFill>
        <p:spPr>
          <a:xfrm>
            <a:off x="1219320" y="1905120"/>
            <a:ext cx="6870600" cy="449568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1037"/>
          <p:cNvSpPr/>
          <p:nvPr/>
        </p:nvSpPr>
        <p:spPr>
          <a:xfrm>
            <a:off x="1219320" y="1905120"/>
            <a:ext cx="6858000" cy="4495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038"/>
          <p:cNvSpPr/>
          <p:nvPr/>
        </p:nvSpPr>
        <p:spPr>
          <a:xfrm>
            <a:off x="2362320" y="3049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996633"/>
                </a:solidFill>
                <a:latin typeface="Times New Roman"/>
              </a:rPr>
              <a:t>Clonación Reproductiv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4"/>
          <p:cNvSpPr/>
          <p:nvPr/>
        </p:nvSpPr>
        <p:spPr>
          <a:xfrm>
            <a:off x="1295280" y="3049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996633"/>
                </a:solidFill>
                <a:latin typeface="Times New Roman"/>
              </a:rPr>
              <a:t>Clonación Terapéutica y Células Mad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Group 42"/>
          <p:cNvGrpSpPr/>
          <p:nvPr/>
        </p:nvGrpSpPr>
        <p:grpSpPr>
          <a:xfrm>
            <a:off x="762120" y="1295280"/>
            <a:ext cx="7467480" cy="5382000"/>
            <a:chOff x="762120" y="1295280"/>
            <a:chExt cx="7467480" cy="5382000"/>
          </a:xfrm>
        </p:grpSpPr>
        <p:grpSp>
          <p:nvGrpSpPr>
            <p:cNvPr id="429" name="Group 33"/>
            <p:cNvGrpSpPr/>
            <p:nvPr/>
          </p:nvGrpSpPr>
          <p:grpSpPr>
            <a:xfrm>
              <a:off x="2435400" y="1676520"/>
              <a:ext cx="4117680" cy="5000760"/>
              <a:chOff x="2435400" y="1676520"/>
              <a:chExt cx="4117680" cy="5000760"/>
            </a:xfrm>
          </p:grpSpPr>
          <p:grpSp>
            <p:nvGrpSpPr>
              <p:cNvPr id="430" name="Group 32"/>
              <p:cNvGrpSpPr/>
              <p:nvPr/>
            </p:nvGrpSpPr>
            <p:grpSpPr>
              <a:xfrm>
                <a:off x="2435400" y="1676520"/>
                <a:ext cx="4117680" cy="5000760"/>
                <a:chOff x="2435400" y="1676520"/>
                <a:chExt cx="4117680" cy="5000760"/>
              </a:xfrm>
            </p:grpSpPr>
            <p:grpSp>
              <p:nvGrpSpPr>
                <p:cNvPr id="431" name="Group 29"/>
                <p:cNvGrpSpPr/>
                <p:nvPr/>
              </p:nvGrpSpPr>
              <p:grpSpPr>
                <a:xfrm>
                  <a:off x="2435400" y="1676520"/>
                  <a:ext cx="4117680" cy="5000760"/>
                  <a:chOff x="2435400" y="1676520"/>
                  <a:chExt cx="4117680" cy="5000760"/>
                </a:xfrm>
              </p:grpSpPr>
              <p:grpSp>
                <p:nvGrpSpPr>
                  <p:cNvPr id="432" name="Group 11"/>
                  <p:cNvGrpSpPr/>
                  <p:nvPr/>
                </p:nvGrpSpPr>
                <p:grpSpPr>
                  <a:xfrm>
                    <a:off x="2435400" y="1676520"/>
                    <a:ext cx="4117680" cy="4981320"/>
                    <a:chOff x="2435400" y="1676520"/>
                    <a:chExt cx="4117680" cy="4981320"/>
                  </a:xfrm>
                </p:grpSpPr>
                <p:grpSp>
                  <p:nvGrpSpPr>
                    <p:cNvPr id="433" name="Group 9"/>
                    <p:cNvGrpSpPr/>
                    <p:nvPr/>
                  </p:nvGrpSpPr>
                  <p:grpSpPr>
                    <a:xfrm>
                      <a:off x="2435400" y="1676520"/>
                      <a:ext cx="4117680" cy="4981320"/>
                      <a:chOff x="2435400" y="1676520"/>
                      <a:chExt cx="4117680" cy="4981320"/>
                    </a:xfrm>
                  </p:grpSpPr>
                  <p:grpSp>
                    <p:nvGrpSpPr>
                      <p:cNvPr id="434" name="Group 6"/>
                      <p:cNvGrpSpPr/>
                      <p:nvPr/>
                    </p:nvGrpSpPr>
                    <p:grpSpPr>
                      <a:xfrm>
                        <a:off x="2435400" y="1676520"/>
                        <a:ext cx="4117680" cy="4981320"/>
                        <a:chOff x="2435400" y="1676520"/>
                        <a:chExt cx="4117680" cy="4981320"/>
                      </a:xfrm>
                    </p:grpSpPr>
                    <p:pic>
                      <p:nvPicPr>
                        <p:cNvPr id="435" name="Picture 2" descr="stammzellbig"/>
                        <p:cNvPicPr/>
                        <p:nvPr/>
                      </p:nvPicPr>
                      <p:blipFill>
                        <a:blip r:embed="rId1"/>
                        <a:stretch/>
                      </p:blipFill>
                      <p:spPr>
                        <a:xfrm>
                          <a:off x="2435400" y="1676520"/>
                          <a:ext cx="4117680" cy="49813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sp>
                      <p:nvSpPr>
                        <p:cNvPr id="436" name="Rectangle 5"/>
                        <p:cNvSpPr/>
                        <p:nvPr/>
                      </p:nvSpPr>
                      <p:spPr>
                        <a:xfrm>
                          <a:off x="2437920" y="1676520"/>
                          <a:ext cx="4113360" cy="4972320"/>
                        </a:xfrm>
                        <a:prstGeom prst="rect">
                          <a:avLst/>
                        </a:prstGeom>
                        <a:noFill/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37" name="Rectangle 8"/>
                      <p:cNvSpPr/>
                      <p:nvPr/>
                    </p:nvSpPr>
                    <p:spPr>
                      <a:xfrm>
                        <a:off x="4067280" y="5638680"/>
                        <a:ext cx="809640" cy="228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38" name="Text Box 10"/>
                    <p:cNvSpPr/>
                    <p:nvPr/>
                  </p:nvSpPr>
                  <p:spPr>
                    <a:xfrm>
                      <a:off x="4114800" y="5638680"/>
                      <a:ext cx="76212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ji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9" name="Group 27"/>
                  <p:cNvGrpSpPr/>
                  <p:nvPr/>
                </p:nvGrpSpPr>
                <p:grpSpPr>
                  <a:xfrm>
                    <a:off x="3581280" y="6400800"/>
                    <a:ext cx="838440" cy="276480"/>
                    <a:chOff x="3581280" y="6400800"/>
                    <a:chExt cx="838440" cy="276480"/>
                  </a:xfrm>
                </p:grpSpPr>
                <p:sp>
                  <p:nvSpPr>
                    <p:cNvPr id="440" name="Rectangle 13"/>
                    <p:cNvSpPr/>
                    <p:nvPr/>
                  </p:nvSpPr>
                  <p:spPr>
                    <a:xfrm>
                      <a:off x="3641760" y="6464160"/>
                      <a:ext cx="701640" cy="1652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1" name="Text Box 14"/>
                    <p:cNvSpPr/>
                    <p:nvPr/>
                  </p:nvSpPr>
                  <p:spPr>
                    <a:xfrm>
                      <a:off x="3581280" y="6400800"/>
                      <a:ext cx="83844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ue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2" name="Group 28"/>
                  <p:cNvGrpSpPr/>
                  <p:nvPr/>
                </p:nvGrpSpPr>
                <p:grpSpPr>
                  <a:xfrm>
                    <a:off x="2666880" y="6400800"/>
                    <a:ext cx="676440" cy="276480"/>
                    <a:chOff x="2666880" y="6400800"/>
                    <a:chExt cx="676440" cy="276480"/>
                  </a:xfrm>
                </p:grpSpPr>
                <p:sp>
                  <p:nvSpPr>
                    <p:cNvPr id="443" name="Rectangle 16"/>
                    <p:cNvSpPr/>
                    <p:nvPr/>
                  </p:nvSpPr>
                  <p:spPr>
                    <a:xfrm>
                      <a:off x="2719440" y="6454800"/>
                      <a:ext cx="592200" cy="177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4" name="Text Box 17"/>
                    <p:cNvSpPr/>
                    <p:nvPr/>
                  </p:nvSpPr>
                  <p:spPr>
                    <a:xfrm>
                      <a:off x="2666880" y="6400800"/>
                      <a:ext cx="67644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5" name="Group 25"/>
                  <p:cNvGrpSpPr/>
                  <p:nvPr/>
                </p:nvGrpSpPr>
                <p:grpSpPr>
                  <a:xfrm>
                    <a:off x="4495680" y="6400800"/>
                    <a:ext cx="928800" cy="276480"/>
                    <a:chOff x="4495680" y="6400800"/>
                    <a:chExt cx="928800" cy="276480"/>
                  </a:xfrm>
                </p:grpSpPr>
                <p:sp>
                  <p:nvSpPr>
                    <p:cNvPr id="446" name="Rectangle 19"/>
                    <p:cNvSpPr/>
                    <p:nvPr/>
                  </p:nvSpPr>
                  <p:spPr>
                    <a:xfrm>
                      <a:off x="4548240" y="6453360"/>
                      <a:ext cx="792000" cy="179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7" name="Text Box 20"/>
                    <p:cNvSpPr/>
                    <p:nvPr/>
                  </p:nvSpPr>
                  <p:spPr>
                    <a:xfrm>
                      <a:off x="4495680" y="6400800"/>
                      <a:ext cx="92880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rvio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8" name="Group 24"/>
                  <p:cNvGrpSpPr/>
                  <p:nvPr/>
                </p:nvGrpSpPr>
                <p:grpSpPr>
                  <a:xfrm>
                    <a:off x="5562720" y="6400800"/>
                    <a:ext cx="928440" cy="276480"/>
                    <a:chOff x="5562720" y="6400800"/>
                    <a:chExt cx="928440" cy="276480"/>
                  </a:xfrm>
                </p:grpSpPr>
                <p:sp>
                  <p:nvSpPr>
                    <p:cNvPr id="449" name="Rectangle 22"/>
                    <p:cNvSpPr/>
                    <p:nvPr/>
                  </p:nvSpPr>
                  <p:spPr>
                    <a:xfrm>
                      <a:off x="5614920" y="6453360"/>
                      <a:ext cx="792360" cy="179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0" name="Text Box 23"/>
                    <p:cNvSpPr/>
                    <p:nvPr/>
                  </p:nvSpPr>
                  <p:spPr>
                    <a:xfrm>
                      <a:off x="5562720" y="6400800"/>
                      <a:ext cx="92844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úscu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51" name="Rectangle 31"/>
                <p:cNvSpPr/>
                <p:nvPr/>
              </p:nvSpPr>
              <p:spPr>
                <a:xfrm>
                  <a:off x="3809880" y="5397480"/>
                  <a:ext cx="1295640" cy="88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2" name="Text Box 30"/>
              <p:cNvSpPr/>
              <p:nvPr/>
            </p:nvSpPr>
            <p:spPr>
              <a:xfrm>
                <a:off x="3276720" y="5295960"/>
                <a:ext cx="243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Times New Roman"/>
                  </a:rPr>
                  <a:t>Células Indiferenciadas en Cultiv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Text Box 34"/>
            <p:cNvSpPr/>
            <p:nvPr/>
          </p:nvSpPr>
          <p:spPr>
            <a:xfrm>
              <a:off x="762120" y="1981080"/>
              <a:ext cx="17524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Células Madre Embrion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Text Box 35"/>
            <p:cNvSpPr/>
            <p:nvPr/>
          </p:nvSpPr>
          <p:spPr>
            <a:xfrm>
              <a:off x="6477120" y="1447920"/>
              <a:ext cx="17524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Clonación por Transferencia Nuclear a Célula Somática Adul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Text Box 36"/>
            <p:cNvSpPr/>
            <p:nvPr/>
          </p:nvSpPr>
          <p:spPr>
            <a:xfrm>
              <a:off x="3124080" y="1295280"/>
              <a:ext cx="2438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Fecundación in vit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Line 38"/>
          <p:cNvSpPr/>
          <p:nvPr/>
        </p:nvSpPr>
        <p:spPr>
          <a:xfrm>
            <a:off x="4800600" y="1600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39"/>
          <p:cNvSpPr/>
          <p:nvPr/>
        </p:nvSpPr>
        <p:spPr>
          <a:xfrm flipH="1">
            <a:off x="6324480" y="25909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40"/>
          <p:cNvSpPr/>
          <p:nvPr/>
        </p:nvSpPr>
        <p:spPr>
          <a:xfrm>
            <a:off x="1600200" y="25909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2"/>
          <p:cNvSpPr/>
          <p:nvPr/>
        </p:nvSpPr>
        <p:spPr>
          <a:xfrm>
            <a:off x="762120" y="1295280"/>
            <a:ext cx="77724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000000"/>
                </a:solidFill>
                <a:latin typeface="Times New Roman"/>
              </a:rPr>
              <a:t>También llamadas Troncales , Estaminales 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000000"/>
                </a:solidFill>
                <a:latin typeface="Times New Roman"/>
              </a:rPr>
              <a:t>Stem Cel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3"/>
          <p:cNvSpPr/>
          <p:nvPr/>
        </p:nvSpPr>
        <p:spPr>
          <a:xfrm>
            <a:off x="533520" y="2590920"/>
            <a:ext cx="861048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Son Células capaces de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Generar como descendencia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Times New Roman"/>
              </a:rPr>
              <a:t>Células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Times New Roman"/>
              </a:rPr>
              <a:t>ijas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Times New Roman"/>
              </a:rPr>
              <a:t>specializadas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en algún tipo tisul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Times New Roman"/>
              </a:rPr>
              <a:t>Autorrenovarse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 en el tiemp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4"/>
          <p:cNvSpPr/>
          <p:nvPr/>
        </p:nvSpPr>
        <p:spPr>
          <a:xfrm>
            <a:off x="3048120" y="3049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6633"/>
                </a:solidFill>
                <a:latin typeface="Times New Roman"/>
              </a:rPr>
              <a:t>Células Mad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Times New Roman"/>
              </a:rPr>
              <a:t>Tipo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50515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·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Hay cuatro tip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· Totipotente: puede crecer y formar un organismo completo, tanto los componentes embrionarios  como los extraembrionar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·  Pluripotente: no puede formar un organismo completo, pero puede formar cualquier otro tipo de célula proveniente de los tres linajes embrionarios (endodermo, ectodermo y mesodermo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· Multipotentes: son aquellas que solo pueden generar células de su propia capa o linaje embrionario de ori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· Unipotentes: pueden formar únicamente  un tipo de célula partic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Picture 4" descr="f026mh16"/>
          <p:cNvPicPr/>
          <p:nvPr/>
        </p:nvPicPr>
        <p:blipFill>
          <a:blip r:embed="rId1"/>
          <a:stretch/>
        </p:blipFill>
        <p:spPr>
          <a:xfrm>
            <a:off x="5715000" y="1695600"/>
            <a:ext cx="2602080" cy="17334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6" descr="412"/>
          <p:cNvPicPr/>
          <p:nvPr/>
        </p:nvPicPr>
        <p:blipFill>
          <a:blip r:embed="rId2"/>
          <a:stretch/>
        </p:blipFill>
        <p:spPr>
          <a:xfrm>
            <a:off x="5867280" y="378936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6508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¿Qué heredamos de nuestros pad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2" descr="nucleoenvolturamicro"/>
          <p:cNvPicPr/>
          <p:nvPr/>
        </p:nvPicPr>
        <p:blipFill>
          <a:blip r:embed="rId1"/>
          <a:stretch/>
        </p:blipFill>
        <p:spPr>
          <a:xfrm>
            <a:off x="2873520" y="1600200"/>
            <a:ext cx="4464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Group 148"/>
          <p:cNvGrpSpPr/>
          <p:nvPr/>
        </p:nvGrpSpPr>
        <p:grpSpPr>
          <a:xfrm>
            <a:off x="2209680" y="1295280"/>
            <a:ext cx="6553080" cy="5333400"/>
            <a:chOff x="2209680" y="1295280"/>
            <a:chExt cx="6553080" cy="5333400"/>
          </a:xfrm>
        </p:grpSpPr>
        <p:grpSp>
          <p:nvGrpSpPr>
            <p:cNvPr id="467" name="Group 116"/>
            <p:cNvGrpSpPr/>
            <p:nvPr/>
          </p:nvGrpSpPr>
          <p:grpSpPr>
            <a:xfrm>
              <a:off x="3276360" y="2133360"/>
              <a:ext cx="3048120" cy="2666520"/>
              <a:chOff x="3276360" y="2133360"/>
              <a:chExt cx="3048120" cy="2666520"/>
            </a:xfrm>
          </p:grpSpPr>
          <p:sp>
            <p:nvSpPr>
              <p:cNvPr id="468" name="Oval 25"/>
              <p:cNvSpPr/>
              <p:nvPr/>
            </p:nvSpPr>
            <p:spPr>
              <a:xfrm>
                <a:off x="5562360" y="2133360"/>
                <a:ext cx="762120" cy="53352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9" name="Group 58"/>
              <p:cNvGrpSpPr/>
              <p:nvPr/>
            </p:nvGrpSpPr>
            <p:grpSpPr>
              <a:xfrm>
                <a:off x="3276360" y="2666880"/>
                <a:ext cx="2437920" cy="2133000"/>
                <a:chOff x="3276360" y="2666880"/>
                <a:chExt cx="2437920" cy="2133000"/>
              </a:xfrm>
            </p:grpSpPr>
            <p:sp>
              <p:nvSpPr>
                <p:cNvPr id="470" name="Freeform 8"/>
                <p:cNvSpPr/>
                <p:nvPr/>
              </p:nvSpPr>
              <p:spPr>
                <a:xfrm>
                  <a:off x="4800240" y="2819160"/>
                  <a:ext cx="561960" cy="558720"/>
                </a:xfrm>
                <a:custGeom>
                  <a:avLst/>
                  <a:gdLst>
                    <a:gd name="textAreaLeft" fmla="*/ 0 w 561960"/>
                    <a:gd name="textAreaRight" fmla="*/ 562320 w 561960"/>
                    <a:gd name="textAreaTop" fmla="*/ 0 h 558720"/>
                    <a:gd name="textAreaBottom" fmla="*/ 559080 h 558720"/>
                  </a:gdLst>
                  <a:ahLst/>
                  <a:rect l="textAreaLeft" t="textAreaTop" r="textAreaRight" b="textAreaBottom"/>
                  <a:pathLst>
                    <a:path w="608" h="549">
                      <a:moveTo>
                        <a:pt x="260" y="64"/>
                      </a:moveTo>
                      <a:cubicBezTo>
                        <a:pt x="251" y="58"/>
                        <a:pt x="241" y="53"/>
                        <a:pt x="233" y="46"/>
                      </a:cubicBezTo>
                      <a:cubicBezTo>
                        <a:pt x="217" y="32"/>
                        <a:pt x="187" y="0"/>
                        <a:pt x="187" y="0"/>
                      </a:cubicBezTo>
                      <a:cubicBezTo>
                        <a:pt x="169" y="5"/>
                        <a:pt x="141" y="7"/>
                        <a:pt x="132" y="28"/>
                      </a:cubicBezTo>
                      <a:cubicBezTo>
                        <a:pt x="126" y="42"/>
                        <a:pt x="134" y="63"/>
                        <a:pt x="123" y="74"/>
                      </a:cubicBezTo>
                      <a:cubicBezTo>
                        <a:pt x="109" y="88"/>
                        <a:pt x="86" y="86"/>
                        <a:pt x="68" y="92"/>
                      </a:cubicBezTo>
                      <a:cubicBezTo>
                        <a:pt x="59" y="95"/>
                        <a:pt x="41" y="101"/>
                        <a:pt x="41" y="101"/>
                      </a:cubicBezTo>
                      <a:cubicBezTo>
                        <a:pt x="27" y="144"/>
                        <a:pt x="19" y="167"/>
                        <a:pt x="68" y="183"/>
                      </a:cubicBezTo>
                      <a:cubicBezTo>
                        <a:pt x="74" y="189"/>
                        <a:pt x="85" y="193"/>
                        <a:pt x="87" y="202"/>
                      </a:cubicBezTo>
                      <a:cubicBezTo>
                        <a:pt x="94" y="236"/>
                        <a:pt x="44" y="249"/>
                        <a:pt x="23" y="256"/>
                      </a:cubicBezTo>
                      <a:cubicBezTo>
                        <a:pt x="17" y="262"/>
                        <a:pt x="5" y="266"/>
                        <a:pt x="4" y="275"/>
                      </a:cubicBezTo>
                      <a:cubicBezTo>
                        <a:pt x="0" y="312"/>
                        <a:pt x="9" y="368"/>
                        <a:pt x="41" y="394"/>
                      </a:cubicBezTo>
                      <a:cubicBezTo>
                        <a:pt x="61" y="410"/>
                        <a:pt x="72" y="410"/>
                        <a:pt x="87" y="430"/>
                      </a:cubicBezTo>
                      <a:cubicBezTo>
                        <a:pt x="100" y="448"/>
                        <a:pt x="116" y="464"/>
                        <a:pt x="123" y="485"/>
                      </a:cubicBezTo>
                      <a:cubicBezTo>
                        <a:pt x="126" y="494"/>
                        <a:pt x="125" y="506"/>
                        <a:pt x="132" y="512"/>
                      </a:cubicBezTo>
                      <a:cubicBezTo>
                        <a:pt x="142" y="520"/>
                        <a:pt x="157" y="519"/>
                        <a:pt x="169" y="522"/>
                      </a:cubicBezTo>
                      <a:cubicBezTo>
                        <a:pt x="196" y="519"/>
                        <a:pt x="224" y="517"/>
                        <a:pt x="251" y="512"/>
                      </a:cubicBezTo>
                      <a:cubicBezTo>
                        <a:pt x="261" y="510"/>
                        <a:pt x="269" y="503"/>
                        <a:pt x="279" y="503"/>
                      </a:cubicBezTo>
                      <a:cubicBezTo>
                        <a:pt x="321" y="503"/>
                        <a:pt x="368" y="536"/>
                        <a:pt x="407" y="549"/>
                      </a:cubicBezTo>
                      <a:cubicBezTo>
                        <a:pt x="469" y="506"/>
                        <a:pt x="440" y="519"/>
                        <a:pt x="489" y="503"/>
                      </a:cubicBezTo>
                      <a:cubicBezTo>
                        <a:pt x="495" y="494"/>
                        <a:pt x="506" y="487"/>
                        <a:pt x="507" y="476"/>
                      </a:cubicBezTo>
                      <a:cubicBezTo>
                        <a:pt x="513" y="420"/>
                        <a:pt x="466" y="388"/>
                        <a:pt x="535" y="366"/>
                      </a:cubicBezTo>
                      <a:cubicBezTo>
                        <a:pt x="553" y="354"/>
                        <a:pt x="571" y="342"/>
                        <a:pt x="589" y="330"/>
                      </a:cubicBezTo>
                      <a:cubicBezTo>
                        <a:pt x="605" y="319"/>
                        <a:pt x="608" y="275"/>
                        <a:pt x="608" y="275"/>
                      </a:cubicBezTo>
                      <a:cubicBezTo>
                        <a:pt x="602" y="257"/>
                        <a:pt x="603" y="234"/>
                        <a:pt x="589" y="220"/>
                      </a:cubicBezTo>
                      <a:cubicBezTo>
                        <a:pt x="576" y="207"/>
                        <a:pt x="535" y="202"/>
                        <a:pt x="535" y="202"/>
                      </a:cubicBezTo>
                      <a:cubicBezTo>
                        <a:pt x="525" y="175"/>
                        <a:pt x="532" y="142"/>
                        <a:pt x="516" y="119"/>
                      </a:cubicBezTo>
                      <a:cubicBezTo>
                        <a:pt x="509" y="109"/>
                        <a:pt x="492" y="114"/>
                        <a:pt x="480" y="110"/>
                      </a:cubicBezTo>
                      <a:cubicBezTo>
                        <a:pt x="452" y="100"/>
                        <a:pt x="440" y="90"/>
                        <a:pt x="416" y="74"/>
                      </a:cubicBezTo>
                      <a:cubicBezTo>
                        <a:pt x="413" y="65"/>
                        <a:pt x="406" y="28"/>
                        <a:pt x="388" y="28"/>
                      </a:cubicBezTo>
                      <a:cubicBezTo>
                        <a:pt x="344" y="28"/>
                        <a:pt x="305" y="64"/>
                        <a:pt x="260" y="64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Freeform 14"/>
                <p:cNvSpPr/>
                <p:nvPr/>
              </p:nvSpPr>
              <p:spPr>
                <a:xfrm>
                  <a:off x="4800240" y="3733560"/>
                  <a:ext cx="457200" cy="406440"/>
                </a:xfrm>
                <a:custGeom>
                  <a:avLst/>
                  <a:gdLst>
                    <a:gd name="textAreaLeft" fmla="*/ 0 w 457200"/>
                    <a:gd name="textAreaRight" fmla="*/ 457560 w 457200"/>
                    <a:gd name="textAreaTop" fmla="*/ 0 h 406440"/>
                    <a:gd name="textAreaBottom" fmla="*/ 406800 h 406440"/>
                  </a:gdLst>
                  <a:ahLst/>
                  <a:rect l="textAreaLeft" t="textAreaTop" r="textAreaRight" b="textAreaBottom"/>
                  <a:pathLst>
                    <a:path w="608" h="549">
                      <a:moveTo>
                        <a:pt x="260" y="64"/>
                      </a:moveTo>
                      <a:cubicBezTo>
                        <a:pt x="251" y="58"/>
                        <a:pt x="241" y="53"/>
                        <a:pt x="233" y="46"/>
                      </a:cubicBezTo>
                      <a:cubicBezTo>
                        <a:pt x="217" y="32"/>
                        <a:pt x="187" y="0"/>
                        <a:pt x="187" y="0"/>
                      </a:cubicBezTo>
                      <a:cubicBezTo>
                        <a:pt x="169" y="5"/>
                        <a:pt x="141" y="7"/>
                        <a:pt x="132" y="28"/>
                      </a:cubicBezTo>
                      <a:cubicBezTo>
                        <a:pt x="126" y="42"/>
                        <a:pt x="134" y="63"/>
                        <a:pt x="123" y="74"/>
                      </a:cubicBezTo>
                      <a:cubicBezTo>
                        <a:pt x="109" y="88"/>
                        <a:pt x="86" y="86"/>
                        <a:pt x="68" y="92"/>
                      </a:cubicBezTo>
                      <a:cubicBezTo>
                        <a:pt x="59" y="95"/>
                        <a:pt x="41" y="101"/>
                        <a:pt x="41" y="101"/>
                      </a:cubicBezTo>
                      <a:cubicBezTo>
                        <a:pt x="27" y="144"/>
                        <a:pt x="19" y="167"/>
                        <a:pt x="68" y="183"/>
                      </a:cubicBezTo>
                      <a:cubicBezTo>
                        <a:pt x="74" y="189"/>
                        <a:pt x="85" y="193"/>
                        <a:pt x="87" y="202"/>
                      </a:cubicBezTo>
                      <a:cubicBezTo>
                        <a:pt x="94" y="236"/>
                        <a:pt x="44" y="249"/>
                        <a:pt x="23" y="256"/>
                      </a:cubicBezTo>
                      <a:cubicBezTo>
                        <a:pt x="17" y="262"/>
                        <a:pt x="5" y="266"/>
                        <a:pt x="4" y="275"/>
                      </a:cubicBezTo>
                      <a:cubicBezTo>
                        <a:pt x="0" y="312"/>
                        <a:pt x="9" y="368"/>
                        <a:pt x="41" y="394"/>
                      </a:cubicBezTo>
                      <a:cubicBezTo>
                        <a:pt x="61" y="410"/>
                        <a:pt x="72" y="410"/>
                        <a:pt x="87" y="430"/>
                      </a:cubicBezTo>
                      <a:cubicBezTo>
                        <a:pt x="100" y="448"/>
                        <a:pt x="116" y="464"/>
                        <a:pt x="123" y="485"/>
                      </a:cubicBezTo>
                      <a:cubicBezTo>
                        <a:pt x="126" y="494"/>
                        <a:pt x="125" y="506"/>
                        <a:pt x="132" y="512"/>
                      </a:cubicBezTo>
                      <a:cubicBezTo>
                        <a:pt x="142" y="520"/>
                        <a:pt x="157" y="519"/>
                        <a:pt x="169" y="522"/>
                      </a:cubicBezTo>
                      <a:cubicBezTo>
                        <a:pt x="196" y="519"/>
                        <a:pt x="224" y="517"/>
                        <a:pt x="251" y="512"/>
                      </a:cubicBezTo>
                      <a:cubicBezTo>
                        <a:pt x="261" y="510"/>
                        <a:pt x="269" y="503"/>
                        <a:pt x="279" y="503"/>
                      </a:cubicBezTo>
                      <a:cubicBezTo>
                        <a:pt x="321" y="503"/>
                        <a:pt x="368" y="536"/>
                        <a:pt x="407" y="549"/>
                      </a:cubicBezTo>
                      <a:cubicBezTo>
                        <a:pt x="469" y="506"/>
                        <a:pt x="440" y="519"/>
                        <a:pt x="489" y="503"/>
                      </a:cubicBezTo>
                      <a:cubicBezTo>
                        <a:pt x="495" y="494"/>
                        <a:pt x="506" y="487"/>
                        <a:pt x="507" y="476"/>
                      </a:cubicBezTo>
                      <a:cubicBezTo>
                        <a:pt x="513" y="420"/>
                        <a:pt x="466" y="388"/>
                        <a:pt x="535" y="366"/>
                      </a:cubicBezTo>
                      <a:cubicBezTo>
                        <a:pt x="553" y="354"/>
                        <a:pt x="571" y="342"/>
                        <a:pt x="589" y="330"/>
                      </a:cubicBezTo>
                      <a:cubicBezTo>
                        <a:pt x="605" y="319"/>
                        <a:pt x="608" y="275"/>
                        <a:pt x="608" y="275"/>
                      </a:cubicBezTo>
                      <a:cubicBezTo>
                        <a:pt x="602" y="257"/>
                        <a:pt x="603" y="234"/>
                        <a:pt x="589" y="220"/>
                      </a:cubicBezTo>
                      <a:cubicBezTo>
                        <a:pt x="576" y="207"/>
                        <a:pt x="535" y="202"/>
                        <a:pt x="535" y="202"/>
                      </a:cubicBezTo>
                      <a:cubicBezTo>
                        <a:pt x="525" y="175"/>
                        <a:pt x="532" y="142"/>
                        <a:pt x="516" y="119"/>
                      </a:cubicBezTo>
                      <a:cubicBezTo>
                        <a:pt x="509" y="109"/>
                        <a:pt x="492" y="114"/>
                        <a:pt x="480" y="110"/>
                      </a:cubicBezTo>
                      <a:cubicBezTo>
                        <a:pt x="452" y="100"/>
                        <a:pt x="440" y="90"/>
                        <a:pt x="416" y="74"/>
                      </a:cubicBezTo>
                      <a:cubicBezTo>
                        <a:pt x="413" y="65"/>
                        <a:pt x="406" y="28"/>
                        <a:pt x="388" y="28"/>
                      </a:cubicBezTo>
                      <a:cubicBezTo>
                        <a:pt x="344" y="28"/>
                        <a:pt x="305" y="64"/>
                        <a:pt x="260" y="64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Freeform 15"/>
                <p:cNvSpPr/>
                <p:nvPr/>
              </p:nvSpPr>
              <p:spPr>
                <a:xfrm>
                  <a:off x="3962160" y="3428640"/>
                  <a:ext cx="561960" cy="559080"/>
                </a:xfrm>
                <a:custGeom>
                  <a:avLst/>
                  <a:gdLst>
                    <a:gd name="textAreaLeft" fmla="*/ 0 w 561960"/>
                    <a:gd name="textAreaRight" fmla="*/ 562320 w 561960"/>
                    <a:gd name="textAreaTop" fmla="*/ 0 h 559080"/>
                    <a:gd name="textAreaBottom" fmla="*/ 559440 h 559080"/>
                  </a:gdLst>
                  <a:ahLst/>
                  <a:rect l="textAreaLeft" t="textAreaTop" r="textAreaRight" b="textAreaBottom"/>
                  <a:pathLst>
                    <a:path w="608" h="549">
                      <a:moveTo>
                        <a:pt x="260" y="64"/>
                      </a:moveTo>
                      <a:cubicBezTo>
                        <a:pt x="251" y="58"/>
                        <a:pt x="241" y="53"/>
                        <a:pt x="233" y="46"/>
                      </a:cubicBezTo>
                      <a:cubicBezTo>
                        <a:pt x="217" y="32"/>
                        <a:pt x="187" y="0"/>
                        <a:pt x="187" y="0"/>
                      </a:cubicBezTo>
                      <a:cubicBezTo>
                        <a:pt x="169" y="5"/>
                        <a:pt x="141" y="7"/>
                        <a:pt x="132" y="28"/>
                      </a:cubicBezTo>
                      <a:cubicBezTo>
                        <a:pt x="126" y="42"/>
                        <a:pt x="134" y="63"/>
                        <a:pt x="123" y="74"/>
                      </a:cubicBezTo>
                      <a:cubicBezTo>
                        <a:pt x="109" y="88"/>
                        <a:pt x="86" y="86"/>
                        <a:pt x="68" y="92"/>
                      </a:cubicBezTo>
                      <a:cubicBezTo>
                        <a:pt x="59" y="95"/>
                        <a:pt x="41" y="101"/>
                        <a:pt x="41" y="101"/>
                      </a:cubicBezTo>
                      <a:cubicBezTo>
                        <a:pt x="27" y="144"/>
                        <a:pt x="19" y="167"/>
                        <a:pt x="68" y="183"/>
                      </a:cubicBezTo>
                      <a:cubicBezTo>
                        <a:pt x="74" y="189"/>
                        <a:pt x="85" y="193"/>
                        <a:pt x="87" y="202"/>
                      </a:cubicBezTo>
                      <a:cubicBezTo>
                        <a:pt x="94" y="236"/>
                        <a:pt x="44" y="249"/>
                        <a:pt x="23" y="256"/>
                      </a:cubicBezTo>
                      <a:cubicBezTo>
                        <a:pt x="17" y="262"/>
                        <a:pt x="5" y="266"/>
                        <a:pt x="4" y="275"/>
                      </a:cubicBezTo>
                      <a:cubicBezTo>
                        <a:pt x="0" y="312"/>
                        <a:pt x="9" y="368"/>
                        <a:pt x="41" y="394"/>
                      </a:cubicBezTo>
                      <a:cubicBezTo>
                        <a:pt x="61" y="410"/>
                        <a:pt x="72" y="410"/>
                        <a:pt x="87" y="430"/>
                      </a:cubicBezTo>
                      <a:cubicBezTo>
                        <a:pt x="100" y="448"/>
                        <a:pt x="116" y="464"/>
                        <a:pt x="123" y="485"/>
                      </a:cubicBezTo>
                      <a:cubicBezTo>
                        <a:pt x="126" y="494"/>
                        <a:pt x="125" y="506"/>
                        <a:pt x="132" y="512"/>
                      </a:cubicBezTo>
                      <a:cubicBezTo>
                        <a:pt x="142" y="520"/>
                        <a:pt x="157" y="519"/>
                        <a:pt x="169" y="522"/>
                      </a:cubicBezTo>
                      <a:cubicBezTo>
                        <a:pt x="196" y="519"/>
                        <a:pt x="224" y="517"/>
                        <a:pt x="251" y="512"/>
                      </a:cubicBezTo>
                      <a:cubicBezTo>
                        <a:pt x="261" y="510"/>
                        <a:pt x="269" y="503"/>
                        <a:pt x="279" y="503"/>
                      </a:cubicBezTo>
                      <a:cubicBezTo>
                        <a:pt x="321" y="503"/>
                        <a:pt x="368" y="536"/>
                        <a:pt x="407" y="549"/>
                      </a:cubicBezTo>
                      <a:cubicBezTo>
                        <a:pt x="469" y="506"/>
                        <a:pt x="440" y="519"/>
                        <a:pt x="489" y="503"/>
                      </a:cubicBezTo>
                      <a:cubicBezTo>
                        <a:pt x="495" y="494"/>
                        <a:pt x="506" y="487"/>
                        <a:pt x="507" y="476"/>
                      </a:cubicBezTo>
                      <a:cubicBezTo>
                        <a:pt x="513" y="420"/>
                        <a:pt x="466" y="388"/>
                        <a:pt x="535" y="366"/>
                      </a:cubicBezTo>
                      <a:cubicBezTo>
                        <a:pt x="553" y="354"/>
                        <a:pt x="571" y="342"/>
                        <a:pt x="589" y="330"/>
                      </a:cubicBezTo>
                      <a:cubicBezTo>
                        <a:pt x="605" y="319"/>
                        <a:pt x="608" y="275"/>
                        <a:pt x="608" y="275"/>
                      </a:cubicBezTo>
                      <a:cubicBezTo>
                        <a:pt x="602" y="257"/>
                        <a:pt x="603" y="234"/>
                        <a:pt x="589" y="220"/>
                      </a:cubicBezTo>
                      <a:cubicBezTo>
                        <a:pt x="576" y="207"/>
                        <a:pt x="535" y="202"/>
                        <a:pt x="535" y="202"/>
                      </a:cubicBezTo>
                      <a:cubicBezTo>
                        <a:pt x="525" y="175"/>
                        <a:pt x="532" y="142"/>
                        <a:pt x="516" y="119"/>
                      </a:cubicBezTo>
                      <a:cubicBezTo>
                        <a:pt x="509" y="109"/>
                        <a:pt x="492" y="114"/>
                        <a:pt x="480" y="110"/>
                      </a:cubicBezTo>
                      <a:cubicBezTo>
                        <a:pt x="452" y="100"/>
                        <a:pt x="440" y="90"/>
                        <a:pt x="416" y="74"/>
                      </a:cubicBezTo>
                      <a:cubicBezTo>
                        <a:pt x="413" y="65"/>
                        <a:pt x="406" y="28"/>
                        <a:pt x="388" y="28"/>
                      </a:cubicBezTo>
                      <a:cubicBezTo>
                        <a:pt x="344" y="28"/>
                        <a:pt x="305" y="64"/>
                        <a:pt x="260" y="64"/>
                      </a:cubicBezTo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3" name="Group 17"/>
                <p:cNvGrpSpPr/>
                <p:nvPr/>
              </p:nvGrpSpPr>
              <p:grpSpPr>
                <a:xfrm>
                  <a:off x="3276360" y="4190760"/>
                  <a:ext cx="532800" cy="609120"/>
                  <a:chOff x="3276360" y="4190760"/>
                  <a:chExt cx="532800" cy="609120"/>
                </a:xfrm>
              </p:grpSpPr>
              <p:sp>
                <p:nvSpPr>
                  <p:cNvPr id="474" name="Oval 9"/>
                  <p:cNvSpPr/>
                  <p:nvPr/>
                </p:nvSpPr>
                <p:spPr>
                  <a:xfrm>
                    <a:off x="3352320" y="4190760"/>
                    <a:ext cx="151920" cy="15228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Oval 10"/>
                  <p:cNvSpPr/>
                  <p:nvPr/>
                </p:nvSpPr>
                <p:spPr>
                  <a:xfrm>
                    <a:off x="3504600" y="4343040"/>
                    <a:ext cx="151920" cy="15192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Oval 11"/>
                  <p:cNvSpPr/>
                  <p:nvPr/>
                </p:nvSpPr>
                <p:spPr>
                  <a:xfrm>
                    <a:off x="3656880" y="4495320"/>
                    <a:ext cx="152280" cy="15192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Oval 12"/>
                  <p:cNvSpPr/>
                  <p:nvPr/>
                </p:nvSpPr>
                <p:spPr>
                  <a:xfrm>
                    <a:off x="3504600" y="4571640"/>
                    <a:ext cx="151920" cy="15192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Oval 13"/>
                  <p:cNvSpPr/>
                  <p:nvPr/>
                </p:nvSpPr>
                <p:spPr>
                  <a:xfrm>
                    <a:off x="3276360" y="4419000"/>
                    <a:ext cx="151920" cy="15228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Oval 16"/>
                  <p:cNvSpPr/>
                  <p:nvPr/>
                </p:nvSpPr>
                <p:spPr>
                  <a:xfrm>
                    <a:off x="3276360" y="4647600"/>
                    <a:ext cx="151920" cy="15228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0" name="Group 18"/>
                <p:cNvGrpSpPr/>
                <p:nvPr/>
              </p:nvGrpSpPr>
              <p:grpSpPr>
                <a:xfrm>
                  <a:off x="4190760" y="4267080"/>
                  <a:ext cx="456840" cy="456840"/>
                  <a:chOff x="4190760" y="4267080"/>
                  <a:chExt cx="456840" cy="456840"/>
                </a:xfrm>
              </p:grpSpPr>
              <p:sp>
                <p:nvSpPr>
                  <p:cNvPr id="481" name="Oval 19"/>
                  <p:cNvSpPr/>
                  <p:nvPr/>
                </p:nvSpPr>
                <p:spPr>
                  <a:xfrm>
                    <a:off x="4255920" y="4267080"/>
                    <a:ext cx="130320" cy="114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Oval 20"/>
                  <p:cNvSpPr/>
                  <p:nvPr/>
                </p:nvSpPr>
                <p:spPr>
                  <a:xfrm>
                    <a:off x="4386600" y="4381200"/>
                    <a:ext cx="130320" cy="114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Oval 21"/>
                  <p:cNvSpPr/>
                  <p:nvPr/>
                </p:nvSpPr>
                <p:spPr>
                  <a:xfrm>
                    <a:off x="4516920" y="4495680"/>
                    <a:ext cx="130680" cy="114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Oval 22"/>
                  <p:cNvSpPr/>
                  <p:nvPr/>
                </p:nvSpPr>
                <p:spPr>
                  <a:xfrm>
                    <a:off x="4386600" y="4552920"/>
                    <a:ext cx="130320" cy="114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Oval 23"/>
                  <p:cNvSpPr/>
                  <p:nvPr/>
                </p:nvSpPr>
                <p:spPr>
                  <a:xfrm>
                    <a:off x="4190760" y="4438440"/>
                    <a:ext cx="130320" cy="114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Oval 24"/>
                  <p:cNvSpPr/>
                  <p:nvPr/>
                </p:nvSpPr>
                <p:spPr>
                  <a:xfrm>
                    <a:off x="4190760" y="4609800"/>
                    <a:ext cx="130320" cy="114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7" name="Line 26"/>
                <p:cNvSpPr/>
                <p:nvPr/>
              </p:nvSpPr>
              <p:spPr>
                <a:xfrm flipH="1">
                  <a:off x="5409360" y="2666880"/>
                  <a:ext cx="30492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Line 28"/>
                <p:cNvSpPr/>
                <p:nvPr/>
              </p:nvSpPr>
              <p:spPr>
                <a:xfrm flipH="1">
                  <a:off x="4571280" y="335268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Line 29"/>
                <p:cNvSpPr/>
                <p:nvPr/>
              </p:nvSpPr>
              <p:spPr>
                <a:xfrm flipH="1">
                  <a:off x="3733200" y="403848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Line 30"/>
                <p:cNvSpPr/>
                <p:nvPr/>
              </p:nvSpPr>
              <p:spPr>
                <a:xfrm>
                  <a:off x="5028840" y="34286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Line 57"/>
                <p:cNvSpPr/>
                <p:nvPr/>
              </p:nvSpPr>
              <p:spPr>
                <a:xfrm flipH="1">
                  <a:off x="4571280" y="411444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2" name="Group 117"/>
            <p:cNvGrpSpPr/>
            <p:nvPr/>
          </p:nvGrpSpPr>
          <p:grpSpPr>
            <a:xfrm>
              <a:off x="4114440" y="3047760"/>
              <a:ext cx="2971800" cy="2742480"/>
              <a:chOff x="4114440" y="3047760"/>
              <a:chExt cx="2971800" cy="2742480"/>
            </a:xfrm>
          </p:grpSpPr>
          <p:sp>
            <p:nvSpPr>
              <p:cNvPr id="493" name="Oval 84"/>
              <p:cNvSpPr/>
              <p:nvPr/>
            </p:nvSpPr>
            <p:spPr>
              <a:xfrm>
                <a:off x="6324480" y="3047760"/>
                <a:ext cx="761760" cy="53352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4" name="Group 86"/>
              <p:cNvGrpSpPr/>
              <p:nvPr/>
            </p:nvGrpSpPr>
            <p:grpSpPr>
              <a:xfrm>
                <a:off x="4114440" y="3657240"/>
                <a:ext cx="2437920" cy="2133000"/>
                <a:chOff x="4114440" y="3657240"/>
                <a:chExt cx="2437920" cy="2133000"/>
              </a:xfrm>
            </p:grpSpPr>
            <p:sp>
              <p:nvSpPr>
                <p:cNvPr id="495" name="Freeform 87"/>
                <p:cNvSpPr/>
                <p:nvPr/>
              </p:nvSpPr>
              <p:spPr>
                <a:xfrm>
                  <a:off x="5638320" y="3809520"/>
                  <a:ext cx="561960" cy="558720"/>
                </a:xfrm>
                <a:custGeom>
                  <a:avLst/>
                  <a:gdLst>
                    <a:gd name="textAreaLeft" fmla="*/ 0 w 561960"/>
                    <a:gd name="textAreaRight" fmla="*/ 562320 w 561960"/>
                    <a:gd name="textAreaTop" fmla="*/ 0 h 558720"/>
                    <a:gd name="textAreaBottom" fmla="*/ 559080 h 558720"/>
                  </a:gdLst>
                  <a:ahLst/>
                  <a:rect l="textAreaLeft" t="textAreaTop" r="textAreaRight" b="textAreaBottom"/>
                  <a:pathLst>
                    <a:path w="608" h="549">
                      <a:moveTo>
                        <a:pt x="260" y="64"/>
                      </a:moveTo>
                      <a:cubicBezTo>
                        <a:pt x="251" y="58"/>
                        <a:pt x="241" y="53"/>
                        <a:pt x="233" y="46"/>
                      </a:cubicBezTo>
                      <a:cubicBezTo>
                        <a:pt x="217" y="32"/>
                        <a:pt x="187" y="0"/>
                        <a:pt x="187" y="0"/>
                      </a:cubicBezTo>
                      <a:cubicBezTo>
                        <a:pt x="169" y="5"/>
                        <a:pt x="141" y="7"/>
                        <a:pt x="132" y="28"/>
                      </a:cubicBezTo>
                      <a:cubicBezTo>
                        <a:pt x="126" y="42"/>
                        <a:pt x="134" y="63"/>
                        <a:pt x="123" y="74"/>
                      </a:cubicBezTo>
                      <a:cubicBezTo>
                        <a:pt x="109" y="88"/>
                        <a:pt x="86" y="86"/>
                        <a:pt x="68" y="92"/>
                      </a:cubicBezTo>
                      <a:cubicBezTo>
                        <a:pt x="59" y="95"/>
                        <a:pt x="41" y="101"/>
                        <a:pt x="41" y="101"/>
                      </a:cubicBezTo>
                      <a:cubicBezTo>
                        <a:pt x="27" y="144"/>
                        <a:pt x="19" y="167"/>
                        <a:pt x="68" y="183"/>
                      </a:cubicBezTo>
                      <a:cubicBezTo>
                        <a:pt x="74" y="189"/>
                        <a:pt x="85" y="193"/>
                        <a:pt x="87" y="202"/>
                      </a:cubicBezTo>
                      <a:cubicBezTo>
                        <a:pt x="94" y="236"/>
                        <a:pt x="44" y="249"/>
                        <a:pt x="23" y="256"/>
                      </a:cubicBezTo>
                      <a:cubicBezTo>
                        <a:pt x="17" y="262"/>
                        <a:pt x="5" y="266"/>
                        <a:pt x="4" y="275"/>
                      </a:cubicBezTo>
                      <a:cubicBezTo>
                        <a:pt x="0" y="312"/>
                        <a:pt x="9" y="368"/>
                        <a:pt x="41" y="394"/>
                      </a:cubicBezTo>
                      <a:cubicBezTo>
                        <a:pt x="61" y="410"/>
                        <a:pt x="72" y="410"/>
                        <a:pt x="87" y="430"/>
                      </a:cubicBezTo>
                      <a:cubicBezTo>
                        <a:pt x="100" y="448"/>
                        <a:pt x="116" y="464"/>
                        <a:pt x="123" y="485"/>
                      </a:cubicBezTo>
                      <a:cubicBezTo>
                        <a:pt x="126" y="494"/>
                        <a:pt x="125" y="506"/>
                        <a:pt x="132" y="512"/>
                      </a:cubicBezTo>
                      <a:cubicBezTo>
                        <a:pt x="142" y="520"/>
                        <a:pt x="157" y="519"/>
                        <a:pt x="169" y="522"/>
                      </a:cubicBezTo>
                      <a:cubicBezTo>
                        <a:pt x="196" y="519"/>
                        <a:pt x="224" y="517"/>
                        <a:pt x="251" y="512"/>
                      </a:cubicBezTo>
                      <a:cubicBezTo>
                        <a:pt x="261" y="510"/>
                        <a:pt x="269" y="503"/>
                        <a:pt x="279" y="503"/>
                      </a:cubicBezTo>
                      <a:cubicBezTo>
                        <a:pt x="321" y="503"/>
                        <a:pt x="368" y="536"/>
                        <a:pt x="407" y="549"/>
                      </a:cubicBezTo>
                      <a:cubicBezTo>
                        <a:pt x="469" y="506"/>
                        <a:pt x="440" y="519"/>
                        <a:pt x="489" y="503"/>
                      </a:cubicBezTo>
                      <a:cubicBezTo>
                        <a:pt x="495" y="494"/>
                        <a:pt x="506" y="487"/>
                        <a:pt x="507" y="476"/>
                      </a:cubicBezTo>
                      <a:cubicBezTo>
                        <a:pt x="513" y="420"/>
                        <a:pt x="466" y="388"/>
                        <a:pt x="535" y="366"/>
                      </a:cubicBezTo>
                      <a:cubicBezTo>
                        <a:pt x="553" y="354"/>
                        <a:pt x="571" y="342"/>
                        <a:pt x="589" y="330"/>
                      </a:cubicBezTo>
                      <a:cubicBezTo>
                        <a:pt x="605" y="319"/>
                        <a:pt x="608" y="275"/>
                        <a:pt x="608" y="275"/>
                      </a:cubicBezTo>
                      <a:cubicBezTo>
                        <a:pt x="602" y="257"/>
                        <a:pt x="603" y="234"/>
                        <a:pt x="589" y="220"/>
                      </a:cubicBezTo>
                      <a:cubicBezTo>
                        <a:pt x="576" y="207"/>
                        <a:pt x="535" y="202"/>
                        <a:pt x="535" y="202"/>
                      </a:cubicBezTo>
                      <a:cubicBezTo>
                        <a:pt x="525" y="175"/>
                        <a:pt x="532" y="142"/>
                        <a:pt x="516" y="119"/>
                      </a:cubicBezTo>
                      <a:cubicBezTo>
                        <a:pt x="509" y="109"/>
                        <a:pt x="492" y="114"/>
                        <a:pt x="480" y="110"/>
                      </a:cubicBezTo>
                      <a:cubicBezTo>
                        <a:pt x="452" y="100"/>
                        <a:pt x="440" y="90"/>
                        <a:pt x="416" y="74"/>
                      </a:cubicBezTo>
                      <a:cubicBezTo>
                        <a:pt x="413" y="65"/>
                        <a:pt x="406" y="28"/>
                        <a:pt x="388" y="28"/>
                      </a:cubicBezTo>
                      <a:cubicBezTo>
                        <a:pt x="344" y="28"/>
                        <a:pt x="305" y="64"/>
                        <a:pt x="260" y="64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Freeform 88"/>
                <p:cNvSpPr/>
                <p:nvPr/>
              </p:nvSpPr>
              <p:spPr>
                <a:xfrm>
                  <a:off x="5638320" y="4723920"/>
                  <a:ext cx="457200" cy="406440"/>
                </a:xfrm>
                <a:custGeom>
                  <a:avLst/>
                  <a:gdLst>
                    <a:gd name="textAreaLeft" fmla="*/ 0 w 457200"/>
                    <a:gd name="textAreaRight" fmla="*/ 457560 w 457200"/>
                    <a:gd name="textAreaTop" fmla="*/ 0 h 406440"/>
                    <a:gd name="textAreaBottom" fmla="*/ 406800 h 406440"/>
                  </a:gdLst>
                  <a:ahLst/>
                  <a:rect l="textAreaLeft" t="textAreaTop" r="textAreaRight" b="textAreaBottom"/>
                  <a:pathLst>
                    <a:path w="608" h="549">
                      <a:moveTo>
                        <a:pt x="260" y="64"/>
                      </a:moveTo>
                      <a:cubicBezTo>
                        <a:pt x="251" y="58"/>
                        <a:pt x="241" y="53"/>
                        <a:pt x="233" y="46"/>
                      </a:cubicBezTo>
                      <a:cubicBezTo>
                        <a:pt x="217" y="32"/>
                        <a:pt x="187" y="0"/>
                        <a:pt x="187" y="0"/>
                      </a:cubicBezTo>
                      <a:cubicBezTo>
                        <a:pt x="169" y="5"/>
                        <a:pt x="141" y="7"/>
                        <a:pt x="132" y="28"/>
                      </a:cubicBezTo>
                      <a:cubicBezTo>
                        <a:pt x="126" y="42"/>
                        <a:pt x="134" y="63"/>
                        <a:pt x="123" y="74"/>
                      </a:cubicBezTo>
                      <a:cubicBezTo>
                        <a:pt x="109" y="88"/>
                        <a:pt x="86" y="86"/>
                        <a:pt x="68" y="92"/>
                      </a:cubicBezTo>
                      <a:cubicBezTo>
                        <a:pt x="59" y="95"/>
                        <a:pt x="41" y="101"/>
                        <a:pt x="41" y="101"/>
                      </a:cubicBezTo>
                      <a:cubicBezTo>
                        <a:pt x="27" y="144"/>
                        <a:pt x="19" y="167"/>
                        <a:pt x="68" y="183"/>
                      </a:cubicBezTo>
                      <a:cubicBezTo>
                        <a:pt x="74" y="189"/>
                        <a:pt x="85" y="193"/>
                        <a:pt x="87" y="202"/>
                      </a:cubicBezTo>
                      <a:cubicBezTo>
                        <a:pt x="94" y="236"/>
                        <a:pt x="44" y="249"/>
                        <a:pt x="23" y="256"/>
                      </a:cubicBezTo>
                      <a:cubicBezTo>
                        <a:pt x="17" y="262"/>
                        <a:pt x="5" y="266"/>
                        <a:pt x="4" y="275"/>
                      </a:cubicBezTo>
                      <a:cubicBezTo>
                        <a:pt x="0" y="312"/>
                        <a:pt x="9" y="368"/>
                        <a:pt x="41" y="394"/>
                      </a:cubicBezTo>
                      <a:cubicBezTo>
                        <a:pt x="61" y="410"/>
                        <a:pt x="72" y="410"/>
                        <a:pt x="87" y="430"/>
                      </a:cubicBezTo>
                      <a:cubicBezTo>
                        <a:pt x="100" y="448"/>
                        <a:pt x="116" y="464"/>
                        <a:pt x="123" y="485"/>
                      </a:cubicBezTo>
                      <a:cubicBezTo>
                        <a:pt x="126" y="494"/>
                        <a:pt x="125" y="506"/>
                        <a:pt x="132" y="512"/>
                      </a:cubicBezTo>
                      <a:cubicBezTo>
                        <a:pt x="142" y="520"/>
                        <a:pt x="157" y="519"/>
                        <a:pt x="169" y="522"/>
                      </a:cubicBezTo>
                      <a:cubicBezTo>
                        <a:pt x="196" y="519"/>
                        <a:pt x="224" y="517"/>
                        <a:pt x="251" y="512"/>
                      </a:cubicBezTo>
                      <a:cubicBezTo>
                        <a:pt x="261" y="510"/>
                        <a:pt x="269" y="503"/>
                        <a:pt x="279" y="503"/>
                      </a:cubicBezTo>
                      <a:cubicBezTo>
                        <a:pt x="321" y="503"/>
                        <a:pt x="368" y="536"/>
                        <a:pt x="407" y="549"/>
                      </a:cubicBezTo>
                      <a:cubicBezTo>
                        <a:pt x="469" y="506"/>
                        <a:pt x="440" y="519"/>
                        <a:pt x="489" y="503"/>
                      </a:cubicBezTo>
                      <a:cubicBezTo>
                        <a:pt x="495" y="494"/>
                        <a:pt x="506" y="487"/>
                        <a:pt x="507" y="476"/>
                      </a:cubicBezTo>
                      <a:cubicBezTo>
                        <a:pt x="513" y="420"/>
                        <a:pt x="466" y="388"/>
                        <a:pt x="535" y="366"/>
                      </a:cubicBezTo>
                      <a:cubicBezTo>
                        <a:pt x="553" y="354"/>
                        <a:pt x="571" y="342"/>
                        <a:pt x="589" y="330"/>
                      </a:cubicBezTo>
                      <a:cubicBezTo>
                        <a:pt x="605" y="319"/>
                        <a:pt x="608" y="275"/>
                        <a:pt x="608" y="275"/>
                      </a:cubicBezTo>
                      <a:cubicBezTo>
                        <a:pt x="602" y="257"/>
                        <a:pt x="603" y="234"/>
                        <a:pt x="589" y="220"/>
                      </a:cubicBezTo>
                      <a:cubicBezTo>
                        <a:pt x="576" y="207"/>
                        <a:pt x="535" y="202"/>
                        <a:pt x="535" y="202"/>
                      </a:cubicBezTo>
                      <a:cubicBezTo>
                        <a:pt x="525" y="175"/>
                        <a:pt x="532" y="142"/>
                        <a:pt x="516" y="119"/>
                      </a:cubicBezTo>
                      <a:cubicBezTo>
                        <a:pt x="509" y="109"/>
                        <a:pt x="492" y="114"/>
                        <a:pt x="480" y="110"/>
                      </a:cubicBezTo>
                      <a:cubicBezTo>
                        <a:pt x="452" y="100"/>
                        <a:pt x="440" y="90"/>
                        <a:pt x="416" y="74"/>
                      </a:cubicBezTo>
                      <a:cubicBezTo>
                        <a:pt x="413" y="65"/>
                        <a:pt x="406" y="28"/>
                        <a:pt x="388" y="28"/>
                      </a:cubicBezTo>
                      <a:cubicBezTo>
                        <a:pt x="344" y="28"/>
                        <a:pt x="305" y="64"/>
                        <a:pt x="260" y="64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Freeform 89"/>
                <p:cNvSpPr/>
                <p:nvPr/>
              </p:nvSpPr>
              <p:spPr>
                <a:xfrm>
                  <a:off x="4800240" y="4419000"/>
                  <a:ext cx="561960" cy="559080"/>
                </a:xfrm>
                <a:custGeom>
                  <a:avLst/>
                  <a:gdLst>
                    <a:gd name="textAreaLeft" fmla="*/ 0 w 561960"/>
                    <a:gd name="textAreaRight" fmla="*/ 562320 w 561960"/>
                    <a:gd name="textAreaTop" fmla="*/ 0 h 559080"/>
                    <a:gd name="textAreaBottom" fmla="*/ 559440 h 559080"/>
                  </a:gdLst>
                  <a:ahLst/>
                  <a:rect l="textAreaLeft" t="textAreaTop" r="textAreaRight" b="textAreaBottom"/>
                  <a:pathLst>
                    <a:path w="608" h="549">
                      <a:moveTo>
                        <a:pt x="260" y="64"/>
                      </a:moveTo>
                      <a:cubicBezTo>
                        <a:pt x="251" y="58"/>
                        <a:pt x="241" y="53"/>
                        <a:pt x="233" y="46"/>
                      </a:cubicBezTo>
                      <a:cubicBezTo>
                        <a:pt x="217" y="32"/>
                        <a:pt x="187" y="0"/>
                        <a:pt x="187" y="0"/>
                      </a:cubicBezTo>
                      <a:cubicBezTo>
                        <a:pt x="169" y="5"/>
                        <a:pt x="141" y="7"/>
                        <a:pt x="132" y="28"/>
                      </a:cubicBezTo>
                      <a:cubicBezTo>
                        <a:pt x="126" y="42"/>
                        <a:pt x="134" y="63"/>
                        <a:pt x="123" y="74"/>
                      </a:cubicBezTo>
                      <a:cubicBezTo>
                        <a:pt x="109" y="88"/>
                        <a:pt x="86" y="86"/>
                        <a:pt x="68" y="92"/>
                      </a:cubicBezTo>
                      <a:cubicBezTo>
                        <a:pt x="59" y="95"/>
                        <a:pt x="41" y="101"/>
                        <a:pt x="41" y="101"/>
                      </a:cubicBezTo>
                      <a:cubicBezTo>
                        <a:pt x="27" y="144"/>
                        <a:pt x="19" y="167"/>
                        <a:pt x="68" y="183"/>
                      </a:cubicBezTo>
                      <a:cubicBezTo>
                        <a:pt x="74" y="189"/>
                        <a:pt x="85" y="193"/>
                        <a:pt x="87" y="202"/>
                      </a:cubicBezTo>
                      <a:cubicBezTo>
                        <a:pt x="94" y="236"/>
                        <a:pt x="44" y="249"/>
                        <a:pt x="23" y="256"/>
                      </a:cubicBezTo>
                      <a:cubicBezTo>
                        <a:pt x="17" y="262"/>
                        <a:pt x="5" y="266"/>
                        <a:pt x="4" y="275"/>
                      </a:cubicBezTo>
                      <a:cubicBezTo>
                        <a:pt x="0" y="312"/>
                        <a:pt x="9" y="368"/>
                        <a:pt x="41" y="394"/>
                      </a:cubicBezTo>
                      <a:cubicBezTo>
                        <a:pt x="61" y="410"/>
                        <a:pt x="72" y="410"/>
                        <a:pt x="87" y="430"/>
                      </a:cubicBezTo>
                      <a:cubicBezTo>
                        <a:pt x="100" y="448"/>
                        <a:pt x="116" y="464"/>
                        <a:pt x="123" y="485"/>
                      </a:cubicBezTo>
                      <a:cubicBezTo>
                        <a:pt x="126" y="494"/>
                        <a:pt x="125" y="506"/>
                        <a:pt x="132" y="512"/>
                      </a:cubicBezTo>
                      <a:cubicBezTo>
                        <a:pt x="142" y="520"/>
                        <a:pt x="157" y="519"/>
                        <a:pt x="169" y="522"/>
                      </a:cubicBezTo>
                      <a:cubicBezTo>
                        <a:pt x="196" y="519"/>
                        <a:pt x="224" y="517"/>
                        <a:pt x="251" y="512"/>
                      </a:cubicBezTo>
                      <a:cubicBezTo>
                        <a:pt x="261" y="510"/>
                        <a:pt x="269" y="503"/>
                        <a:pt x="279" y="503"/>
                      </a:cubicBezTo>
                      <a:cubicBezTo>
                        <a:pt x="321" y="503"/>
                        <a:pt x="368" y="536"/>
                        <a:pt x="407" y="549"/>
                      </a:cubicBezTo>
                      <a:cubicBezTo>
                        <a:pt x="469" y="506"/>
                        <a:pt x="440" y="519"/>
                        <a:pt x="489" y="503"/>
                      </a:cubicBezTo>
                      <a:cubicBezTo>
                        <a:pt x="495" y="494"/>
                        <a:pt x="506" y="487"/>
                        <a:pt x="507" y="476"/>
                      </a:cubicBezTo>
                      <a:cubicBezTo>
                        <a:pt x="513" y="420"/>
                        <a:pt x="466" y="388"/>
                        <a:pt x="535" y="366"/>
                      </a:cubicBezTo>
                      <a:cubicBezTo>
                        <a:pt x="553" y="354"/>
                        <a:pt x="571" y="342"/>
                        <a:pt x="589" y="330"/>
                      </a:cubicBezTo>
                      <a:cubicBezTo>
                        <a:pt x="605" y="319"/>
                        <a:pt x="608" y="275"/>
                        <a:pt x="608" y="275"/>
                      </a:cubicBezTo>
                      <a:cubicBezTo>
                        <a:pt x="602" y="257"/>
                        <a:pt x="603" y="234"/>
                        <a:pt x="589" y="220"/>
                      </a:cubicBezTo>
                      <a:cubicBezTo>
                        <a:pt x="576" y="207"/>
                        <a:pt x="535" y="202"/>
                        <a:pt x="535" y="202"/>
                      </a:cubicBezTo>
                      <a:cubicBezTo>
                        <a:pt x="525" y="175"/>
                        <a:pt x="532" y="142"/>
                        <a:pt x="516" y="119"/>
                      </a:cubicBezTo>
                      <a:cubicBezTo>
                        <a:pt x="509" y="109"/>
                        <a:pt x="492" y="114"/>
                        <a:pt x="480" y="110"/>
                      </a:cubicBezTo>
                      <a:cubicBezTo>
                        <a:pt x="452" y="100"/>
                        <a:pt x="440" y="90"/>
                        <a:pt x="416" y="74"/>
                      </a:cubicBezTo>
                      <a:cubicBezTo>
                        <a:pt x="413" y="65"/>
                        <a:pt x="406" y="28"/>
                        <a:pt x="388" y="28"/>
                      </a:cubicBezTo>
                      <a:cubicBezTo>
                        <a:pt x="344" y="28"/>
                        <a:pt x="305" y="64"/>
                        <a:pt x="260" y="64"/>
                      </a:cubicBezTo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8" name="Group 90"/>
                <p:cNvGrpSpPr/>
                <p:nvPr/>
              </p:nvGrpSpPr>
              <p:grpSpPr>
                <a:xfrm>
                  <a:off x="4114440" y="5181120"/>
                  <a:ext cx="532800" cy="609120"/>
                  <a:chOff x="4114440" y="5181120"/>
                  <a:chExt cx="532800" cy="609120"/>
                </a:xfrm>
              </p:grpSpPr>
              <p:sp>
                <p:nvSpPr>
                  <p:cNvPr id="499" name="Oval 91"/>
                  <p:cNvSpPr/>
                  <p:nvPr/>
                </p:nvSpPr>
                <p:spPr>
                  <a:xfrm>
                    <a:off x="4190400" y="5181120"/>
                    <a:ext cx="151920" cy="15228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Oval 92"/>
                  <p:cNvSpPr/>
                  <p:nvPr/>
                </p:nvSpPr>
                <p:spPr>
                  <a:xfrm>
                    <a:off x="4342680" y="5333400"/>
                    <a:ext cx="151920" cy="15192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Oval 93"/>
                  <p:cNvSpPr/>
                  <p:nvPr/>
                </p:nvSpPr>
                <p:spPr>
                  <a:xfrm>
                    <a:off x="4494960" y="5485680"/>
                    <a:ext cx="152280" cy="15192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Oval 94"/>
                  <p:cNvSpPr/>
                  <p:nvPr/>
                </p:nvSpPr>
                <p:spPr>
                  <a:xfrm>
                    <a:off x="4342680" y="5562000"/>
                    <a:ext cx="151920" cy="15192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Oval 95"/>
                  <p:cNvSpPr/>
                  <p:nvPr/>
                </p:nvSpPr>
                <p:spPr>
                  <a:xfrm>
                    <a:off x="4114440" y="5409360"/>
                    <a:ext cx="151920" cy="15228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Oval 96"/>
                  <p:cNvSpPr/>
                  <p:nvPr/>
                </p:nvSpPr>
                <p:spPr>
                  <a:xfrm>
                    <a:off x="4114440" y="5637960"/>
                    <a:ext cx="151920" cy="15228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5" name="Group 97"/>
                <p:cNvGrpSpPr/>
                <p:nvPr/>
              </p:nvGrpSpPr>
              <p:grpSpPr>
                <a:xfrm>
                  <a:off x="5028840" y="5257440"/>
                  <a:ext cx="456840" cy="456840"/>
                  <a:chOff x="5028840" y="5257440"/>
                  <a:chExt cx="456840" cy="456840"/>
                </a:xfrm>
              </p:grpSpPr>
              <p:sp>
                <p:nvSpPr>
                  <p:cNvPr id="506" name="Oval 98"/>
                  <p:cNvSpPr/>
                  <p:nvPr/>
                </p:nvSpPr>
                <p:spPr>
                  <a:xfrm>
                    <a:off x="5094000" y="5257440"/>
                    <a:ext cx="130320" cy="114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Oval 99"/>
                  <p:cNvSpPr/>
                  <p:nvPr/>
                </p:nvSpPr>
                <p:spPr>
                  <a:xfrm>
                    <a:off x="5224680" y="5371560"/>
                    <a:ext cx="130320" cy="114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Oval 100"/>
                  <p:cNvSpPr/>
                  <p:nvPr/>
                </p:nvSpPr>
                <p:spPr>
                  <a:xfrm>
                    <a:off x="5355000" y="5486040"/>
                    <a:ext cx="130680" cy="114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Oval 101"/>
                  <p:cNvSpPr/>
                  <p:nvPr/>
                </p:nvSpPr>
                <p:spPr>
                  <a:xfrm>
                    <a:off x="5224680" y="5543280"/>
                    <a:ext cx="130320" cy="114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Oval 102"/>
                  <p:cNvSpPr/>
                  <p:nvPr/>
                </p:nvSpPr>
                <p:spPr>
                  <a:xfrm>
                    <a:off x="5028840" y="5428800"/>
                    <a:ext cx="130320" cy="114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Oval 103"/>
                  <p:cNvSpPr/>
                  <p:nvPr/>
                </p:nvSpPr>
                <p:spPr>
                  <a:xfrm>
                    <a:off x="5028840" y="5600160"/>
                    <a:ext cx="130320" cy="114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2" name="Line 104"/>
                <p:cNvSpPr/>
                <p:nvPr/>
              </p:nvSpPr>
              <p:spPr>
                <a:xfrm flipH="1">
                  <a:off x="6247440" y="3657240"/>
                  <a:ext cx="30492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Line 105"/>
                <p:cNvSpPr/>
                <p:nvPr/>
              </p:nvSpPr>
              <p:spPr>
                <a:xfrm flipH="1">
                  <a:off x="5409360" y="434304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Line 106"/>
                <p:cNvSpPr/>
                <p:nvPr/>
              </p:nvSpPr>
              <p:spPr>
                <a:xfrm flipH="1">
                  <a:off x="4571280" y="502884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Line 107"/>
                <p:cNvSpPr/>
                <p:nvPr/>
              </p:nvSpPr>
              <p:spPr>
                <a:xfrm>
                  <a:off x="5866920" y="44190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Line 108"/>
                <p:cNvSpPr/>
                <p:nvPr/>
              </p:nvSpPr>
              <p:spPr>
                <a:xfrm flipH="1">
                  <a:off x="5409360" y="510480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17" name="Group 115"/>
            <p:cNvGrpSpPr/>
            <p:nvPr/>
          </p:nvGrpSpPr>
          <p:grpSpPr>
            <a:xfrm>
              <a:off x="2209680" y="1295280"/>
              <a:ext cx="3200400" cy="2666160"/>
              <a:chOff x="2209680" y="1295280"/>
              <a:chExt cx="3200400" cy="2666160"/>
            </a:xfrm>
          </p:grpSpPr>
          <p:sp>
            <p:nvSpPr>
              <p:cNvPr id="518" name="Oval 3"/>
              <p:cNvSpPr/>
              <p:nvPr/>
            </p:nvSpPr>
            <p:spPr>
              <a:xfrm>
                <a:off x="4647960" y="1295280"/>
                <a:ext cx="762120" cy="53316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9" name="Group 59"/>
              <p:cNvGrpSpPr/>
              <p:nvPr/>
            </p:nvGrpSpPr>
            <p:grpSpPr>
              <a:xfrm>
                <a:off x="2209680" y="1828440"/>
                <a:ext cx="2437920" cy="2133000"/>
                <a:chOff x="2209680" y="1828440"/>
                <a:chExt cx="2437920" cy="2133000"/>
              </a:xfrm>
            </p:grpSpPr>
            <p:sp>
              <p:nvSpPr>
                <p:cNvPr id="520" name="Freeform 60"/>
                <p:cNvSpPr/>
                <p:nvPr/>
              </p:nvSpPr>
              <p:spPr>
                <a:xfrm>
                  <a:off x="3733560" y="1980720"/>
                  <a:ext cx="561960" cy="558720"/>
                </a:xfrm>
                <a:custGeom>
                  <a:avLst/>
                  <a:gdLst>
                    <a:gd name="textAreaLeft" fmla="*/ 0 w 561960"/>
                    <a:gd name="textAreaRight" fmla="*/ 562320 w 561960"/>
                    <a:gd name="textAreaTop" fmla="*/ 0 h 558720"/>
                    <a:gd name="textAreaBottom" fmla="*/ 559080 h 558720"/>
                  </a:gdLst>
                  <a:ahLst/>
                  <a:rect l="textAreaLeft" t="textAreaTop" r="textAreaRight" b="textAreaBottom"/>
                  <a:pathLst>
                    <a:path w="608" h="549">
                      <a:moveTo>
                        <a:pt x="260" y="64"/>
                      </a:moveTo>
                      <a:cubicBezTo>
                        <a:pt x="251" y="58"/>
                        <a:pt x="241" y="53"/>
                        <a:pt x="233" y="46"/>
                      </a:cubicBezTo>
                      <a:cubicBezTo>
                        <a:pt x="217" y="32"/>
                        <a:pt x="187" y="0"/>
                        <a:pt x="187" y="0"/>
                      </a:cubicBezTo>
                      <a:cubicBezTo>
                        <a:pt x="169" y="5"/>
                        <a:pt x="141" y="7"/>
                        <a:pt x="132" y="28"/>
                      </a:cubicBezTo>
                      <a:cubicBezTo>
                        <a:pt x="126" y="42"/>
                        <a:pt x="134" y="63"/>
                        <a:pt x="123" y="74"/>
                      </a:cubicBezTo>
                      <a:cubicBezTo>
                        <a:pt x="109" y="88"/>
                        <a:pt x="86" y="86"/>
                        <a:pt x="68" y="92"/>
                      </a:cubicBezTo>
                      <a:cubicBezTo>
                        <a:pt x="59" y="95"/>
                        <a:pt x="41" y="101"/>
                        <a:pt x="41" y="101"/>
                      </a:cubicBezTo>
                      <a:cubicBezTo>
                        <a:pt x="27" y="144"/>
                        <a:pt x="19" y="167"/>
                        <a:pt x="68" y="183"/>
                      </a:cubicBezTo>
                      <a:cubicBezTo>
                        <a:pt x="74" y="189"/>
                        <a:pt x="85" y="193"/>
                        <a:pt x="87" y="202"/>
                      </a:cubicBezTo>
                      <a:cubicBezTo>
                        <a:pt x="94" y="236"/>
                        <a:pt x="44" y="249"/>
                        <a:pt x="23" y="256"/>
                      </a:cubicBezTo>
                      <a:cubicBezTo>
                        <a:pt x="17" y="262"/>
                        <a:pt x="5" y="266"/>
                        <a:pt x="4" y="275"/>
                      </a:cubicBezTo>
                      <a:cubicBezTo>
                        <a:pt x="0" y="312"/>
                        <a:pt x="9" y="368"/>
                        <a:pt x="41" y="394"/>
                      </a:cubicBezTo>
                      <a:cubicBezTo>
                        <a:pt x="61" y="410"/>
                        <a:pt x="72" y="410"/>
                        <a:pt x="87" y="430"/>
                      </a:cubicBezTo>
                      <a:cubicBezTo>
                        <a:pt x="100" y="448"/>
                        <a:pt x="116" y="464"/>
                        <a:pt x="123" y="485"/>
                      </a:cubicBezTo>
                      <a:cubicBezTo>
                        <a:pt x="126" y="494"/>
                        <a:pt x="125" y="506"/>
                        <a:pt x="132" y="512"/>
                      </a:cubicBezTo>
                      <a:cubicBezTo>
                        <a:pt x="142" y="520"/>
                        <a:pt x="157" y="519"/>
                        <a:pt x="169" y="522"/>
                      </a:cubicBezTo>
                      <a:cubicBezTo>
                        <a:pt x="196" y="519"/>
                        <a:pt x="224" y="517"/>
                        <a:pt x="251" y="512"/>
                      </a:cubicBezTo>
                      <a:cubicBezTo>
                        <a:pt x="261" y="510"/>
                        <a:pt x="269" y="503"/>
                        <a:pt x="279" y="503"/>
                      </a:cubicBezTo>
                      <a:cubicBezTo>
                        <a:pt x="321" y="503"/>
                        <a:pt x="368" y="536"/>
                        <a:pt x="407" y="549"/>
                      </a:cubicBezTo>
                      <a:cubicBezTo>
                        <a:pt x="469" y="506"/>
                        <a:pt x="440" y="519"/>
                        <a:pt x="489" y="503"/>
                      </a:cubicBezTo>
                      <a:cubicBezTo>
                        <a:pt x="495" y="494"/>
                        <a:pt x="506" y="487"/>
                        <a:pt x="507" y="476"/>
                      </a:cubicBezTo>
                      <a:cubicBezTo>
                        <a:pt x="513" y="420"/>
                        <a:pt x="466" y="388"/>
                        <a:pt x="535" y="366"/>
                      </a:cubicBezTo>
                      <a:cubicBezTo>
                        <a:pt x="553" y="354"/>
                        <a:pt x="571" y="342"/>
                        <a:pt x="589" y="330"/>
                      </a:cubicBezTo>
                      <a:cubicBezTo>
                        <a:pt x="605" y="319"/>
                        <a:pt x="608" y="275"/>
                        <a:pt x="608" y="275"/>
                      </a:cubicBezTo>
                      <a:cubicBezTo>
                        <a:pt x="602" y="257"/>
                        <a:pt x="603" y="234"/>
                        <a:pt x="589" y="220"/>
                      </a:cubicBezTo>
                      <a:cubicBezTo>
                        <a:pt x="576" y="207"/>
                        <a:pt x="535" y="202"/>
                        <a:pt x="535" y="202"/>
                      </a:cubicBezTo>
                      <a:cubicBezTo>
                        <a:pt x="525" y="175"/>
                        <a:pt x="532" y="142"/>
                        <a:pt x="516" y="119"/>
                      </a:cubicBezTo>
                      <a:cubicBezTo>
                        <a:pt x="509" y="109"/>
                        <a:pt x="492" y="114"/>
                        <a:pt x="480" y="110"/>
                      </a:cubicBezTo>
                      <a:cubicBezTo>
                        <a:pt x="452" y="100"/>
                        <a:pt x="440" y="90"/>
                        <a:pt x="416" y="74"/>
                      </a:cubicBezTo>
                      <a:cubicBezTo>
                        <a:pt x="413" y="65"/>
                        <a:pt x="406" y="28"/>
                        <a:pt x="388" y="28"/>
                      </a:cubicBezTo>
                      <a:cubicBezTo>
                        <a:pt x="344" y="28"/>
                        <a:pt x="305" y="64"/>
                        <a:pt x="260" y="64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Freeform 61"/>
                <p:cNvSpPr/>
                <p:nvPr/>
              </p:nvSpPr>
              <p:spPr>
                <a:xfrm>
                  <a:off x="3733560" y="2895120"/>
                  <a:ext cx="457200" cy="406440"/>
                </a:xfrm>
                <a:custGeom>
                  <a:avLst/>
                  <a:gdLst>
                    <a:gd name="textAreaLeft" fmla="*/ 0 w 457200"/>
                    <a:gd name="textAreaRight" fmla="*/ 457560 w 457200"/>
                    <a:gd name="textAreaTop" fmla="*/ 0 h 406440"/>
                    <a:gd name="textAreaBottom" fmla="*/ 406800 h 406440"/>
                  </a:gdLst>
                  <a:ahLst/>
                  <a:rect l="textAreaLeft" t="textAreaTop" r="textAreaRight" b="textAreaBottom"/>
                  <a:pathLst>
                    <a:path w="608" h="549">
                      <a:moveTo>
                        <a:pt x="260" y="64"/>
                      </a:moveTo>
                      <a:cubicBezTo>
                        <a:pt x="251" y="58"/>
                        <a:pt x="241" y="53"/>
                        <a:pt x="233" y="46"/>
                      </a:cubicBezTo>
                      <a:cubicBezTo>
                        <a:pt x="217" y="32"/>
                        <a:pt x="187" y="0"/>
                        <a:pt x="187" y="0"/>
                      </a:cubicBezTo>
                      <a:cubicBezTo>
                        <a:pt x="169" y="5"/>
                        <a:pt x="141" y="7"/>
                        <a:pt x="132" y="28"/>
                      </a:cubicBezTo>
                      <a:cubicBezTo>
                        <a:pt x="126" y="42"/>
                        <a:pt x="134" y="63"/>
                        <a:pt x="123" y="74"/>
                      </a:cubicBezTo>
                      <a:cubicBezTo>
                        <a:pt x="109" y="88"/>
                        <a:pt x="86" y="86"/>
                        <a:pt x="68" y="92"/>
                      </a:cubicBezTo>
                      <a:cubicBezTo>
                        <a:pt x="59" y="95"/>
                        <a:pt x="41" y="101"/>
                        <a:pt x="41" y="101"/>
                      </a:cubicBezTo>
                      <a:cubicBezTo>
                        <a:pt x="27" y="144"/>
                        <a:pt x="19" y="167"/>
                        <a:pt x="68" y="183"/>
                      </a:cubicBezTo>
                      <a:cubicBezTo>
                        <a:pt x="74" y="189"/>
                        <a:pt x="85" y="193"/>
                        <a:pt x="87" y="202"/>
                      </a:cubicBezTo>
                      <a:cubicBezTo>
                        <a:pt x="94" y="236"/>
                        <a:pt x="44" y="249"/>
                        <a:pt x="23" y="256"/>
                      </a:cubicBezTo>
                      <a:cubicBezTo>
                        <a:pt x="17" y="262"/>
                        <a:pt x="5" y="266"/>
                        <a:pt x="4" y="275"/>
                      </a:cubicBezTo>
                      <a:cubicBezTo>
                        <a:pt x="0" y="312"/>
                        <a:pt x="9" y="368"/>
                        <a:pt x="41" y="394"/>
                      </a:cubicBezTo>
                      <a:cubicBezTo>
                        <a:pt x="61" y="410"/>
                        <a:pt x="72" y="410"/>
                        <a:pt x="87" y="430"/>
                      </a:cubicBezTo>
                      <a:cubicBezTo>
                        <a:pt x="100" y="448"/>
                        <a:pt x="116" y="464"/>
                        <a:pt x="123" y="485"/>
                      </a:cubicBezTo>
                      <a:cubicBezTo>
                        <a:pt x="126" y="494"/>
                        <a:pt x="125" y="506"/>
                        <a:pt x="132" y="512"/>
                      </a:cubicBezTo>
                      <a:cubicBezTo>
                        <a:pt x="142" y="520"/>
                        <a:pt x="157" y="519"/>
                        <a:pt x="169" y="522"/>
                      </a:cubicBezTo>
                      <a:cubicBezTo>
                        <a:pt x="196" y="519"/>
                        <a:pt x="224" y="517"/>
                        <a:pt x="251" y="512"/>
                      </a:cubicBezTo>
                      <a:cubicBezTo>
                        <a:pt x="261" y="510"/>
                        <a:pt x="269" y="503"/>
                        <a:pt x="279" y="503"/>
                      </a:cubicBezTo>
                      <a:cubicBezTo>
                        <a:pt x="321" y="503"/>
                        <a:pt x="368" y="536"/>
                        <a:pt x="407" y="549"/>
                      </a:cubicBezTo>
                      <a:cubicBezTo>
                        <a:pt x="469" y="506"/>
                        <a:pt x="440" y="519"/>
                        <a:pt x="489" y="503"/>
                      </a:cubicBezTo>
                      <a:cubicBezTo>
                        <a:pt x="495" y="494"/>
                        <a:pt x="506" y="487"/>
                        <a:pt x="507" y="476"/>
                      </a:cubicBezTo>
                      <a:cubicBezTo>
                        <a:pt x="513" y="420"/>
                        <a:pt x="466" y="388"/>
                        <a:pt x="535" y="366"/>
                      </a:cubicBezTo>
                      <a:cubicBezTo>
                        <a:pt x="553" y="354"/>
                        <a:pt x="571" y="342"/>
                        <a:pt x="589" y="330"/>
                      </a:cubicBezTo>
                      <a:cubicBezTo>
                        <a:pt x="605" y="319"/>
                        <a:pt x="608" y="275"/>
                        <a:pt x="608" y="275"/>
                      </a:cubicBezTo>
                      <a:cubicBezTo>
                        <a:pt x="602" y="257"/>
                        <a:pt x="603" y="234"/>
                        <a:pt x="589" y="220"/>
                      </a:cubicBezTo>
                      <a:cubicBezTo>
                        <a:pt x="576" y="207"/>
                        <a:pt x="535" y="202"/>
                        <a:pt x="535" y="202"/>
                      </a:cubicBezTo>
                      <a:cubicBezTo>
                        <a:pt x="525" y="175"/>
                        <a:pt x="532" y="142"/>
                        <a:pt x="516" y="119"/>
                      </a:cubicBezTo>
                      <a:cubicBezTo>
                        <a:pt x="509" y="109"/>
                        <a:pt x="492" y="114"/>
                        <a:pt x="480" y="110"/>
                      </a:cubicBezTo>
                      <a:cubicBezTo>
                        <a:pt x="452" y="100"/>
                        <a:pt x="440" y="90"/>
                        <a:pt x="416" y="74"/>
                      </a:cubicBezTo>
                      <a:cubicBezTo>
                        <a:pt x="413" y="65"/>
                        <a:pt x="406" y="28"/>
                        <a:pt x="388" y="28"/>
                      </a:cubicBezTo>
                      <a:cubicBezTo>
                        <a:pt x="344" y="28"/>
                        <a:pt x="305" y="64"/>
                        <a:pt x="260" y="64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Freeform 62"/>
                <p:cNvSpPr/>
                <p:nvPr/>
              </p:nvSpPr>
              <p:spPr>
                <a:xfrm>
                  <a:off x="2895480" y="2590200"/>
                  <a:ext cx="561960" cy="559080"/>
                </a:xfrm>
                <a:custGeom>
                  <a:avLst/>
                  <a:gdLst>
                    <a:gd name="textAreaLeft" fmla="*/ 0 w 561960"/>
                    <a:gd name="textAreaRight" fmla="*/ 562320 w 561960"/>
                    <a:gd name="textAreaTop" fmla="*/ 0 h 559080"/>
                    <a:gd name="textAreaBottom" fmla="*/ 559440 h 559080"/>
                  </a:gdLst>
                  <a:ahLst/>
                  <a:rect l="textAreaLeft" t="textAreaTop" r="textAreaRight" b="textAreaBottom"/>
                  <a:pathLst>
                    <a:path w="608" h="549">
                      <a:moveTo>
                        <a:pt x="260" y="64"/>
                      </a:moveTo>
                      <a:cubicBezTo>
                        <a:pt x="251" y="58"/>
                        <a:pt x="241" y="53"/>
                        <a:pt x="233" y="46"/>
                      </a:cubicBezTo>
                      <a:cubicBezTo>
                        <a:pt x="217" y="32"/>
                        <a:pt x="187" y="0"/>
                        <a:pt x="187" y="0"/>
                      </a:cubicBezTo>
                      <a:cubicBezTo>
                        <a:pt x="169" y="5"/>
                        <a:pt x="141" y="7"/>
                        <a:pt x="132" y="28"/>
                      </a:cubicBezTo>
                      <a:cubicBezTo>
                        <a:pt x="126" y="42"/>
                        <a:pt x="134" y="63"/>
                        <a:pt x="123" y="74"/>
                      </a:cubicBezTo>
                      <a:cubicBezTo>
                        <a:pt x="109" y="88"/>
                        <a:pt x="86" y="86"/>
                        <a:pt x="68" y="92"/>
                      </a:cubicBezTo>
                      <a:cubicBezTo>
                        <a:pt x="59" y="95"/>
                        <a:pt x="41" y="101"/>
                        <a:pt x="41" y="101"/>
                      </a:cubicBezTo>
                      <a:cubicBezTo>
                        <a:pt x="27" y="144"/>
                        <a:pt x="19" y="167"/>
                        <a:pt x="68" y="183"/>
                      </a:cubicBezTo>
                      <a:cubicBezTo>
                        <a:pt x="74" y="189"/>
                        <a:pt x="85" y="193"/>
                        <a:pt x="87" y="202"/>
                      </a:cubicBezTo>
                      <a:cubicBezTo>
                        <a:pt x="94" y="236"/>
                        <a:pt x="44" y="249"/>
                        <a:pt x="23" y="256"/>
                      </a:cubicBezTo>
                      <a:cubicBezTo>
                        <a:pt x="17" y="262"/>
                        <a:pt x="5" y="266"/>
                        <a:pt x="4" y="275"/>
                      </a:cubicBezTo>
                      <a:cubicBezTo>
                        <a:pt x="0" y="312"/>
                        <a:pt x="9" y="368"/>
                        <a:pt x="41" y="394"/>
                      </a:cubicBezTo>
                      <a:cubicBezTo>
                        <a:pt x="61" y="410"/>
                        <a:pt x="72" y="410"/>
                        <a:pt x="87" y="430"/>
                      </a:cubicBezTo>
                      <a:cubicBezTo>
                        <a:pt x="100" y="448"/>
                        <a:pt x="116" y="464"/>
                        <a:pt x="123" y="485"/>
                      </a:cubicBezTo>
                      <a:cubicBezTo>
                        <a:pt x="126" y="494"/>
                        <a:pt x="125" y="506"/>
                        <a:pt x="132" y="512"/>
                      </a:cubicBezTo>
                      <a:cubicBezTo>
                        <a:pt x="142" y="520"/>
                        <a:pt x="157" y="519"/>
                        <a:pt x="169" y="522"/>
                      </a:cubicBezTo>
                      <a:cubicBezTo>
                        <a:pt x="196" y="519"/>
                        <a:pt x="224" y="517"/>
                        <a:pt x="251" y="512"/>
                      </a:cubicBezTo>
                      <a:cubicBezTo>
                        <a:pt x="261" y="510"/>
                        <a:pt x="269" y="503"/>
                        <a:pt x="279" y="503"/>
                      </a:cubicBezTo>
                      <a:cubicBezTo>
                        <a:pt x="321" y="503"/>
                        <a:pt x="368" y="536"/>
                        <a:pt x="407" y="549"/>
                      </a:cubicBezTo>
                      <a:cubicBezTo>
                        <a:pt x="469" y="506"/>
                        <a:pt x="440" y="519"/>
                        <a:pt x="489" y="503"/>
                      </a:cubicBezTo>
                      <a:cubicBezTo>
                        <a:pt x="495" y="494"/>
                        <a:pt x="506" y="487"/>
                        <a:pt x="507" y="476"/>
                      </a:cubicBezTo>
                      <a:cubicBezTo>
                        <a:pt x="513" y="420"/>
                        <a:pt x="466" y="388"/>
                        <a:pt x="535" y="366"/>
                      </a:cubicBezTo>
                      <a:cubicBezTo>
                        <a:pt x="553" y="354"/>
                        <a:pt x="571" y="342"/>
                        <a:pt x="589" y="330"/>
                      </a:cubicBezTo>
                      <a:cubicBezTo>
                        <a:pt x="605" y="319"/>
                        <a:pt x="608" y="275"/>
                        <a:pt x="608" y="275"/>
                      </a:cubicBezTo>
                      <a:cubicBezTo>
                        <a:pt x="602" y="257"/>
                        <a:pt x="603" y="234"/>
                        <a:pt x="589" y="220"/>
                      </a:cubicBezTo>
                      <a:cubicBezTo>
                        <a:pt x="576" y="207"/>
                        <a:pt x="535" y="202"/>
                        <a:pt x="535" y="202"/>
                      </a:cubicBezTo>
                      <a:cubicBezTo>
                        <a:pt x="525" y="175"/>
                        <a:pt x="532" y="142"/>
                        <a:pt x="516" y="119"/>
                      </a:cubicBezTo>
                      <a:cubicBezTo>
                        <a:pt x="509" y="109"/>
                        <a:pt x="492" y="114"/>
                        <a:pt x="480" y="110"/>
                      </a:cubicBezTo>
                      <a:cubicBezTo>
                        <a:pt x="452" y="100"/>
                        <a:pt x="440" y="90"/>
                        <a:pt x="416" y="74"/>
                      </a:cubicBezTo>
                      <a:cubicBezTo>
                        <a:pt x="413" y="65"/>
                        <a:pt x="406" y="28"/>
                        <a:pt x="388" y="28"/>
                      </a:cubicBezTo>
                      <a:cubicBezTo>
                        <a:pt x="344" y="28"/>
                        <a:pt x="305" y="64"/>
                        <a:pt x="260" y="64"/>
                      </a:cubicBezTo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3" name="Group 63"/>
                <p:cNvGrpSpPr/>
                <p:nvPr/>
              </p:nvGrpSpPr>
              <p:grpSpPr>
                <a:xfrm>
                  <a:off x="2209680" y="3352320"/>
                  <a:ext cx="532800" cy="609120"/>
                  <a:chOff x="2209680" y="3352320"/>
                  <a:chExt cx="532800" cy="609120"/>
                </a:xfrm>
              </p:grpSpPr>
              <p:sp>
                <p:nvSpPr>
                  <p:cNvPr id="524" name="Oval 64"/>
                  <p:cNvSpPr/>
                  <p:nvPr/>
                </p:nvSpPr>
                <p:spPr>
                  <a:xfrm>
                    <a:off x="2285640" y="3352320"/>
                    <a:ext cx="151920" cy="15228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Oval 65"/>
                  <p:cNvSpPr/>
                  <p:nvPr/>
                </p:nvSpPr>
                <p:spPr>
                  <a:xfrm>
                    <a:off x="2437920" y="3504600"/>
                    <a:ext cx="151920" cy="15192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Oval 66"/>
                  <p:cNvSpPr/>
                  <p:nvPr/>
                </p:nvSpPr>
                <p:spPr>
                  <a:xfrm>
                    <a:off x="2590200" y="3656880"/>
                    <a:ext cx="152280" cy="15192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Oval 67"/>
                  <p:cNvSpPr/>
                  <p:nvPr/>
                </p:nvSpPr>
                <p:spPr>
                  <a:xfrm>
                    <a:off x="2437920" y="3733200"/>
                    <a:ext cx="151920" cy="15192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Oval 68"/>
                  <p:cNvSpPr/>
                  <p:nvPr/>
                </p:nvSpPr>
                <p:spPr>
                  <a:xfrm>
                    <a:off x="2209680" y="3580560"/>
                    <a:ext cx="151920" cy="15228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Oval 69"/>
                  <p:cNvSpPr/>
                  <p:nvPr/>
                </p:nvSpPr>
                <p:spPr>
                  <a:xfrm>
                    <a:off x="2209680" y="3809160"/>
                    <a:ext cx="151920" cy="15228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0" name="Group 70"/>
                <p:cNvGrpSpPr/>
                <p:nvPr/>
              </p:nvGrpSpPr>
              <p:grpSpPr>
                <a:xfrm>
                  <a:off x="3124080" y="3428640"/>
                  <a:ext cx="456840" cy="456840"/>
                  <a:chOff x="3124080" y="3428640"/>
                  <a:chExt cx="456840" cy="456840"/>
                </a:xfrm>
              </p:grpSpPr>
              <p:sp>
                <p:nvSpPr>
                  <p:cNvPr id="531" name="Oval 71"/>
                  <p:cNvSpPr/>
                  <p:nvPr/>
                </p:nvSpPr>
                <p:spPr>
                  <a:xfrm>
                    <a:off x="3189240" y="3428640"/>
                    <a:ext cx="130320" cy="114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Oval 72"/>
                  <p:cNvSpPr/>
                  <p:nvPr/>
                </p:nvSpPr>
                <p:spPr>
                  <a:xfrm>
                    <a:off x="3319920" y="3542760"/>
                    <a:ext cx="130320" cy="114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Oval 73"/>
                  <p:cNvSpPr/>
                  <p:nvPr/>
                </p:nvSpPr>
                <p:spPr>
                  <a:xfrm>
                    <a:off x="3450240" y="3657240"/>
                    <a:ext cx="130680" cy="114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Oval 74"/>
                  <p:cNvSpPr/>
                  <p:nvPr/>
                </p:nvSpPr>
                <p:spPr>
                  <a:xfrm>
                    <a:off x="3319920" y="3714480"/>
                    <a:ext cx="130320" cy="114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Oval 75"/>
                  <p:cNvSpPr/>
                  <p:nvPr/>
                </p:nvSpPr>
                <p:spPr>
                  <a:xfrm>
                    <a:off x="3124080" y="3600000"/>
                    <a:ext cx="130320" cy="114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Oval 76"/>
                  <p:cNvSpPr/>
                  <p:nvPr/>
                </p:nvSpPr>
                <p:spPr>
                  <a:xfrm>
                    <a:off x="3124080" y="3771360"/>
                    <a:ext cx="130320" cy="114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7" name="Line 77"/>
                <p:cNvSpPr/>
                <p:nvPr/>
              </p:nvSpPr>
              <p:spPr>
                <a:xfrm flipH="1">
                  <a:off x="4342680" y="1828440"/>
                  <a:ext cx="30492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Line 78"/>
                <p:cNvSpPr/>
                <p:nvPr/>
              </p:nvSpPr>
              <p:spPr>
                <a:xfrm flipH="1">
                  <a:off x="3504600" y="251424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Line 79"/>
                <p:cNvSpPr/>
                <p:nvPr/>
              </p:nvSpPr>
              <p:spPr>
                <a:xfrm flipH="1">
                  <a:off x="2666520" y="320004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Line 80"/>
                <p:cNvSpPr/>
                <p:nvPr/>
              </p:nvSpPr>
              <p:spPr>
                <a:xfrm>
                  <a:off x="3962160" y="25902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Line 81"/>
                <p:cNvSpPr/>
                <p:nvPr/>
              </p:nvSpPr>
              <p:spPr>
                <a:xfrm flipH="1">
                  <a:off x="3504600" y="327600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42" name="Line 113"/>
            <p:cNvSpPr/>
            <p:nvPr/>
          </p:nvSpPr>
          <p:spPr>
            <a:xfrm>
              <a:off x="5333760" y="182844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14"/>
            <p:cNvSpPr/>
            <p:nvPr/>
          </p:nvSpPr>
          <p:spPr>
            <a:xfrm>
              <a:off x="6171840" y="274284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20"/>
            <p:cNvSpPr/>
            <p:nvPr/>
          </p:nvSpPr>
          <p:spPr>
            <a:xfrm>
              <a:off x="6933960" y="365724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Oval 122"/>
            <p:cNvSpPr/>
            <p:nvPr/>
          </p:nvSpPr>
          <p:spPr>
            <a:xfrm>
              <a:off x="7162560" y="3962160"/>
              <a:ext cx="762120" cy="5335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Freeform 124"/>
            <p:cNvSpPr/>
            <p:nvPr/>
          </p:nvSpPr>
          <p:spPr>
            <a:xfrm>
              <a:off x="6553080" y="4724280"/>
              <a:ext cx="561960" cy="55872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558720"/>
                <a:gd name="textAreaBottom" fmla="*/ 559080 h 558720"/>
              </a:gdLst>
              <a:ahLst/>
              <a:rect l="textAreaLeft" t="textAreaTop" r="textAreaRight" b="textAreaBottom"/>
              <a:pathLst>
                <a:path w="608" h="549">
                  <a:moveTo>
                    <a:pt x="260" y="64"/>
                  </a:moveTo>
                  <a:cubicBezTo>
                    <a:pt x="251" y="58"/>
                    <a:pt x="241" y="53"/>
                    <a:pt x="233" y="46"/>
                  </a:cubicBezTo>
                  <a:cubicBezTo>
                    <a:pt x="217" y="32"/>
                    <a:pt x="187" y="0"/>
                    <a:pt x="187" y="0"/>
                  </a:cubicBezTo>
                  <a:cubicBezTo>
                    <a:pt x="169" y="5"/>
                    <a:pt x="141" y="7"/>
                    <a:pt x="132" y="28"/>
                  </a:cubicBezTo>
                  <a:cubicBezTo>
                    <a:pt x="126" y="42"/>
                    <a:pt x="134" y="63"/>
                    <a:pt x="123" y="74"/>
                  </a:cubicBezTo>
                  <a:cubicBezTo>
                    <a:pt x="109" y="88"/>
                    <a:pt x="86" y="86"/>
                    <a:pt x="68" y="92"/>
                  </a:cubicBezTo>
                  <a:cubicBezTo>
                    <a:pt x="59" y="95"/>
                    <a:pt x="41" y="101"/>
                    <a:pt x="41" y="101"/>
                  </a:cubicBezTo>
                  <a:cubicBezTo>
                    <a:pt x="27" y="144"/>
                    <a:pt x="19" y="167"/>
                    <a:pt x="68" y="183"/>
                  </a:cubicBezTo>
                  <a:cubicBezTo>
                    <a:pt x="74" y="189"/>
                    <a:pt x="85" y="193"/>
                    <a:pt x="87" y="202"/>
                  </a:cubicBezTo>
                  <a:cubicBezTo>
                    <a:pt x="94" y="236"/>
                    <a:pt x="44" y="249"/>
                    <a:pt x="23" y="256"/>
                  </a:cubicBezTo>
                  <a:cubicBezTo>
                    <a:pt x="17" y="262"/>
                    <a:pt x="5" y="266"/>
                    <a:pt x="4" y="275"/>
                  </a:cubicBezTo>
                  <a:cubicBezTo>
                    <a:pt x="0" y="312"/>
                    <a:pt x="9" y="368"/>
                    <a:pt x="41" y="394"/>
                  </a:cubicBezTo>
                  <a:cubicBezTo>
                    <a:pt x="61" y="410"/>
                    <a:pt x="72" y="410"/>
                    <a:pt x="87" y="430"/>
                  </a:cubicBezTo>
                  <a:cubicBezTo>
                    <a:pt x="100" y="448"/>
                    <a:pt x="116" y="464"/>
                    <a:pt x="123" y="485"/>
                  </a:cubicBezTo>
                  <a:cubicBezTo>
                    <a:pt x="126" y="494"/>
                    <a:pt x="125" y="506"/>
                    <a:pt x="132" y="512"/>
                  </a:cubicBezTo>
                  <a:cubicBezTo>
                    <a:pt x="142" y="520"/>
                    <a:pt x="157" y="519"/>
                    <a:pt x="169" y="522"/>
                  </a:cubicBezTo>
                  <a:cubicBezTo>
                    <a:pt x="196" y="519"/>
                    <a:pt x="224" y="517"/>
                    <a:pt x="251" y="512"/>
                  </a:cubicBezTo>
                  <a:cubicBezTo>
                    <a:pt x="261" y="510"/>
                    <a:pt x="269" y="503"/>
                    <a:pt x="279" y="503"/>
                  </a:cubicBezTo>
                  <a:cubicBezTo>
                    <a:pt x="321" y="503"/>
                    <a:pt x="368" y="536"/>
                    <a:pt x="407" y="549"/>
                  </a:cubicBezTo>
                  <a:cubicBezTo>
                    <a:pt x="469" y="506"/>
                    <a:pt x="440" y="519"/>
                    <a:pt x="489" y="503"/>
                  </a:cubicBezTo>
                  <a:cubicBezTo>
                    <a:pt x="495" y="494"/>
                    <a:pt x="506" y="487"/>
                    <a:pt x="507" y="476"/>
                  </a:cubicBezTo>
                  <a:cubicBezTo>
                    <a:pt x="513" y="420"/>
                    <a:pt x="466" y="388"/>
                    <a:pt x="535" y="366"/>
                  </a:cubicBezTo>
                  <a:cubicBezTo>
                    <a:pt x="553" y="354"/>
                    <a:pt x="571" y="342"/>
                    <a:pt x="589" y="330"/>
                  </a:cubicBezTo>
                  <a:cubicBezTo>
                    <a:pt x="605" y="319"/>
                    <a:pt x="608" y="275"/>
                    <a:pt x="608" y="275"/>
                  </a:cubicBezTo>
                  <a:cubicBezTo>
                    <a:pt x="602" y="257"/>
                    <a:pt x="603" y="234"/>
                    <a:pt x="589" y="220"/>
                  </a:cubicBezTo>
                  <a:cubicBezTo>
                    <a:pt x="576" y="207"/>
                    <a:pt x="535" y="202"/>
                    <a:pt x="535" y="202"/>
                  </a:cubicBezTo>
                  <a:cubicBezTo>
                    <a:pt x="525" y="175"/>
                    <a:pt x="532" y="142"/>
                    <a:pt x="516" y="119"/>
                  </a:cubicBezTo>
                  <a:cubicBezTo>
                    <a:pt x="509" y="109"/>
                    <a:pt x="492" y="114"/>
                    <a:pt x="480" y="110"/>
                  </a:cubicBezTo>
                  <a:cubicBezTo>
                    <a:pt x="452" y="100"/>
                    <a:pt x="440" y="90"/>
                    <a:pt x="416" y="74"/>
                  </a:cubicBezTo>
                  <a:cubicBezTo>
                    <a:pt x="413" y="65"/>
                    <a:pt x="406" y="28"/>
                    <a:pt x="388" y="28"/>
                  </a:cubicBezTo>
                  <a:cubicBezTo>
                    <a:pt x="344" y="28"/>
                    <a:pt x="305" y="64"/>
                    <a:pt x="260" y="64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Freeform 125"/>
            <p:cNvSpPr/>
            <p:nvPr/>
          </p:nvSpPr>
          <p:spPr>
            <a:xfrm>
              <a:off x="6553080" y="5638680"/>
              <a:ext cx="457200" cy="40644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608" h="549">
                  <a:moveTo>
                    <a:pt x="260" y="64"/>
                  </a:moveTo>
                  <a:cubicBezTo>
                    <a:pt x="251" y="58"/>
                    <a:pt x="241" y="53"/>
                    <a:pt x="233" y="46"/>
                  </a:cubicBezTo>
                  <a:cubicBezTo>
                    <a:pt x="217" y="32"/>
                    <a:pt x="187" y="0"/>
                    <a:pt x="187" y="0"/>
                  </a:cubicBezTo>
                  <a:cubicBezTo>
                    <a:pt x="169" y="5"/>
                    <a:pt x="141" y="7"/>
                    <a:pt x="132" y="28"/>
                  </a:cubicBezTo>
                  <a:cubicBezTo>
                    <a:pt x="126" y="42"/>
                    <a:pt x="134" y="63"/>
                    <a:pt x="123" y="74"/>
                  </a:cubicBezTo>
                  <a:cubicBezTo>
                    <a:pt x="109" y="88"/>
                    <a:pt x="86" y="86"/>
                    <a:pt x="68" y="92"/>
                  </a:cubicBezTo>
                  <a:cubicBezTo>
                    <a:pt x="59" y="95"/>
                    <a:pt x="41" y="101"/>
                    <a:pt x="41" y="101"/>
                  </a:cubicBezTo>
                  <a:cubicBezTo>
                    <a:pt x="27" y="144"/>
                    <a:pt x="19" y="167"/>
                    <a:pt x="68" y="183"/>
                  </a:cubicBezTo>
                  <a:cubicBezTo>
                    <a:pt x="74" y="189"/>
                    <a:pt x="85" y="193"/>
                    <a:pt x="87" y="202"/>
                  </a:cubicBezTo>
                  <a:cubicBezTo>
                    <a:pt x="94" y="236"/>
                    <a:pt x="44" y="249"/>
                    <a:pt x="23" y="256"/>
                  </a:cubicBezTo>
                  <a:cubicBezTo>
                    <a:pt x="17" y="262"/>
                    <a:pt x="5" y="266"/>
                    <a:pt x="4" y="275"/>
                  </a:cubicBezTo>
                  <a:cubicBezTo>
                    <a:pt x="0" y="312"/>
                    <a:pt x="9" y="368"/>
                    <a:pt x="41" y="394"/>
                  </a:cubicBezTo>
                  <a:cubicBezTo>
                    <a:pt x="61" y="410"/>
                    <a:pt x="72" y="410"/>
                    <a:pt x="87" y="430"/>
                  </a:cubicBezTo>
                  <a:cubicBezTo>
                    <a:pt x="100" y="448"/>
                    <a:pt x="116" y="464"/>
                    <a:pt x="123" y="485"/>
                  </a:cubicBezTo>
                  <a:cubicBezTo>
                    <a:pt x="126" y="494"/>
                    <a:pt x="125" y="506"/>
                    <a:pt x="132" y="512"/>
                  </a:cubicBezTo>
                  <a:cubicBezTo>
                    <a:pt x="142" y="520"/>
                    <a:pt x="157" y="519"/>
                    <a:pt x="169" y="522"/>
                  </a:cubicBezTo>
                  <a:cubicBezTo>
                    <a:pt x="196" y="519"/>
                    <a:pt x="224" y="517"/>
                    <a:pt x="251" y="512"/>
                  </a:cubicBezTo>
                  <a:cubicBezTo>
                    <a:pt x="261" y="510"/>
                    <a:pt x="269" y="503"/>
                    <a:pt x="279" y="503"/>
                  </a:cubicBezTo>
                  <a:cubicBezTo>
                    <a:pt x="321" y="503"/>
                    <a:pt x="368" y="536"/>
                    <a:pt x="407" y="549"/>
                  </a:cubicBezTo>
                  <a:cubicBezTo>
                    <a:pt x="469" y="506"/>
                    <a:pt x="440" y="519"/>
                    <a:pt x="489" y="503"/>
                  </a:cubicBezTo>
                  <a:cubicBezTo>
                    <a:pt x="495" y="494"/>
                    <a:pt x="506" y="487"/>
                    <a:pt x="507" y="476"/>
                  </a:cubicBezTo>
                  <a:cubicBezTo>
                    <a:pt x="513" y="420"/>
                    <a:pt x="466" y="388"/>
                    <a:pt x="535" y="366"/>
                  </a:cubicBezTo>
                  <a:cubicBezTo>
                    <a:pt x="553" y="354"/>
                    <a:pt x="571" y="342"/>
                    <a:pt x="589" y="330"/>
                  </a:cubicBezTo>
                  <a:cubicBezTo>
                    <a:pt x="605" y="319"/>
                    <a:pt x="608" y="275"/>
                    <a:pt x="608" y="275"/>
                  </a:cubicBezTo>
                  <a:cubicBezTo>
                    <a:pt x="602" y="257"/>
                    <a:pt x="603" y="234"/>
                    <a:pt x="589" y="220"/>
                  </a:cubicBezTo>
                  <a:cubicBezTo>
                    <a:pt x="576" y="207"/>
                    <a:pt x="535" y="202"/>
                    <a:pt x="535" y="202"/>
                  </a:cubicBezTo>
                  <a:cubicBezTo>
                    <a:pt x="525" y="175"/>
                    <a:pt x="532" y="142"/>
                    <a:pt x="516" y="119"/>
                  </a:cubicBezTo>
                  <a:cubicBezTo>
                    <a:pt x="509" y="109"/>
                    <a:pt x="492" y="114"/>
                    <a:pt x="480" y="110"/>
                  </a:cubicBezTo>
                  <a:cubicBezTo>
                    <a:pt x="452" y="100"/>
                    <a:pt x="440" y="90"/>
                    <a:pt x="416" y="74"/>
                  </a:cubicBezTo>
                  <a:cubicBezTo>
                    <a:pt x="413" y="65"/>
                    <a:pt x="406" y="28"/>
                    <a:pt x="388" y="28"/>
                  </a:cubicBezTo>
                  <a:cubicBezTo>
                    <a:pt x="344" y="28"/>
                    <a:pt x="305" y="64"/>
                    <a:pt x="260" y="64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Freeform 126"/>
            <p:cNvSpPr/>
            <p:nvPr/>
          </p:nvSpPr>
          <p:spPr>
            <a:xfrm>
              <a:off x="5714640" y="5333760"/>
              <a:ext cx="561960" cy="55872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558720"/>
                <a:gd name="textAreaBottom" fmla="*/ 559080 h 558720"/>
              </a:gdLst>
              <a:ahLst/>
              <a:rect l="textAreaLeft" t="textAreaTop" r="textAreaRight" b="textAreaBottom"/>
              <a:pathLst>
                <a:path w="608" h="549">
                  <a:moveTo>
                    <a:pt x="260" y="64"/>
                  </a:moveTo>
                  <a:cubicBezTo>
                    <a:pt x="251" y="58"/>
                    <a:pt x="241" y="53"/>
                    <a:pt x="233" y="46"/>
                  </a:cubicBezTo>
                  <a:cubicBezTo>
                    <a:pt x="217" y="32"/>
                    <a:pt x="187" y="0"/>
                    <a:pt x="187" y="0"/>
                  </a:cubicBezTo>
                  <a:cubicBezTo>
                    <a:pt x="169" y="5"/>
                    <a:pt x="141" y="7"/>
                    <a:pt x="132" y="28"/>
                  </a:cubicBezTo>
                  <a:cubicBezTo>
                    <a:pt x="126" y="42"/>
                    <a:pt x="134" y="63"/>
                    <a:pt x="123" y="74"/>
                  </a:cubicBezTo>
                  <a:cubicBezTo>
                    <a:pt x="109" y="88"/>
                    <a:pt x="86" y="86"/>
                    <a:pt x="68" y="92"/>
                  </a:cubicBezTo>
                  <a:cubicBezTo>
                    <a:pt x="59" y="95"/>
                    <a:pt x="41" y="101"/>
                    <a:pt x="41" y="101"/>
                  </a:cubicBezTo>
                  <a:cubicBezTo>
                    <a:pt x="27" y="144"/>
                    <a:pt x="19" y="167"/>
                    <a:pt x="68" y="183"/>
                  </a:cubicBezTo>
                  <a:cubicBezTo>
                    <a:pt x="74" y="189"/>
                    <a:pt x="85" y="193"/>
                    <a:pt x="87" y="202"/>
                  </a:cubicBezTo>
                  <a:cubicBezTo>
                    <a:pt x="94" y="236"/>
                    <a:pt x="44" y="249"/>
                    <a:pt x="23" y="256"/>
                  </a:cubicBezTo>
                  <a:cubicBezTo>
                    <a:pt x="17" y="262"/>
                    <a:pt x="5" y="266"/>
                    <a:pt x="4" y="275"/>
                  </a:cubicBezTo>
                  <a:cubicBezTo>
                    <a:pt x="0" y="312"/>
                    <a:pt x="9" y="368"/>
                    <a:pt x="41" y="394"/>
                  </a:cubicBezTo>
                  <a:cubicBezTo>
                    <a:pt x="61" y="410"/>
                    <a:pt x="72" y="410"/>
                    <a:pt x="87" y="430"/>
                  </a:cubicBezTo>
                  <a:cubicBezTo>
                    <a:pt x="100" y="448"/>
                    <a:pt x="116" y="464"/>
                    <a:pt x="123" y="485"/>
                  </a:cubicBezTo>
                  <a:cubicBezTo>
                    <a:pt x="126" y="494"/>
                    <a:pt x="125" y="506"/>
                    <a:pt x="132" y="512"/>
                  </a:cubicBezTo>
                  <a:cubicBezTo>
                    <a:pt x="142" y="520"/>
                    <a:pt x="157" y="519"/>
                    <a:pt x="169" y="522"/>
                  </a:cubicBezTo>
                  <a:cubicBezTo>
                    <a:pt x="196" y="519"/>
                    <a:pt x="224" y="517"/>
                    <a:pt x="251" y="512"/>
                  </a:cubicBezTo>
                  <a:cubicBezTo>
                    <a:pt x="261" y="510"/>
                    <a:pt x="269" y="503"/>
                    <a:pt x="279" y="503"/>
                  </a:cubicBezTo>
                  <a:cubicBezTo>
                    <a:pt x="321" y="503"/>
                    <a:pt x="368" y="536"/>
                    <a:pt x="407" y="549"/>
                  </a:cubicBezTo>
                  <a:cubicBezTo>
                    <a:pt x="469" y="506"/>
                    <a:pt x="440" y="519"/>
                    <a:pt x="489" y="503"/>
                  </a:cubicBezTo>
                  <a:cubicBezTo>
                    <a:pt x="495" y="494"/>
                    <a:pt x="506" y="487"/>
                    <a:pt x="507" y="476"/>
                  </a:cubicBezTo>
                  <a:cubicBezTo>
                    <a:pt x="513" y="420"/>
                    <a:pt x="466" y="388"/>
                    <a:pt x="535" y="366"/>
                  </a:cubicBezTo>
                  <a:cubicBezTo>
                    <a:pt x="553" y="354"/>
                    <a:pt x="571" y="342"/>
                    <a:pt x="589" y="330"/>
                  </a:cubicBezTo>
                  <a:cubicBezTo>
                    <a:pt x="605" y="319"/>
                    <a:pt x="608" y="275"/>
                    <a:pt x="608" y="275"/>
                  </a:cubicBezTo>
                  <a:cubicBezTo>
                    <a:pt x="602" y="257"/>
                    <a:pt x="603" y="234"/>
                    <a:pt x="589" y="220"/>
                  </a:cubicBezTo>
                  <a:cubicBezTo>
                    <a:pt x="576" y="207"/>
                    <a:pt x="535" y="202"/>
                    <a:pt x="535" y="202"/>
                  </a:cubicBezTo>
                  <a:cubicBezTo>
                    <a:pt x="525" y="175"/>
                    <a:pt x="532" y="142"/>
                    <a:pt x="516" y="119"/>
                  </a:cubicBezTo>
                  <a:cubicBezTo>
                    <a:pt x="509" y="109"/>
                    <a:pt x="492" y="114"/>
                    <a:pt x="480" y="110"/>
                  </a:cubicBezTo>
                  <a:cubicBezTo>
                    <a:pt x="452" y="100"/>
                    <a:pt x="440" y="90"/>
                    <a:pt x="416" y="74"/>
                  </a:cubicBezTo>
                  <a:cubicBezTo>
                    <a:pt x="413" y="65"/>
                    <a:pt x="406" y="28"/>
                    <a:pt x="388" y="28"/>
                  </a:cubicBezTo>
                  <a:cubicBezTo>
                    <a:pt x="344" y="28"/>
                    <a:pt x="305" y="64"/>
                    <a:pt x="260" y="64"/>
                  </a:cubicBez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9" name="Group 127"/>
            <p:cNvGrpSpPr/>
            <p:nvPr/>
          </p:nvGrpSpPr>
          <p:grpSpPr>
            <a:xfrm>
              <a:off x="5043240" y="6008400"/>
              <a:ext cx="533520" cy="609120"/>
              <a:chOff x="5043240" y="6008400"/>
              <a:chExt cx="533520" cy="609120"/>
            </a:xfrm>
          </p:grpSpPr>
          <p:sp>
            <p:nvSpPr>
              <p:cNvPr id="550" name="Oval 128"/>
              <p:cNvSpPr/>
              <p:nvPr/>
            </p:nvSpPr>
            <p:spPr>
              <a:xfrm>
                <a:off x="5119560" y="6008400"/>
                <a:ext cx="152280" cy="152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Oval 129"/>
              <p:cNvSpPr/>
              <p:nvPr/>
            </p:nvSpPr>
            <p:spPr>
              <a:xfrm>
                <a:off x="5271840" y="6160680"/>
                <a:ext cx="152280" cy="1519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Oval 130"/>
              <p:cNvSpPr/>
              <p:nvPr/>
            </p:nvSpPr>
            <p:spPr>
              <a:xfrm>
                <a:off x="5424120" y="6312960"/>
                <a:ext cx="152640" cy="1519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Oval 131"/>
              <p:cNvSpPr/>
              <p:nvPr/>
            </p:nvSpPr>
            <p:spPr>
              <a:xfrm>
                <a:off x="5271840" y="6389280"/>
                <a:ext cx="152280" cy="1519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Oval 132"/>
              <p:cNvSpPr/>
              <p:nvPr/>
            </p:nvSpPr>
            <p:spPr>
              <a:xfrm>
                <a:off x="5043240" y="6236640"/>
                <a:ext cx="152280" cy="152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Oval 133"/>
              <p:cNvSpPr/>
              <p:nvPr/>
            </p:nvSpPr>
            <p:spPr>
              <a:xfrm>
                <a:off x="5043240" y="6465240"/>
                <a:ext cx="152280" cy="152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Group 134"/>
            <p:cNvGrpSpPr/>
            <p:nvPr/>
          </p:nvGrpSpPr>
          <p:grpSpPr>
            <a:xfrm>
              <a:off x="5943240" y="6171840"/>
              <a:ext cx="456840" cy="456840"/>
              <a:chOff x="5943240" y="6171840"/>
              <a:chExt cx="456840" cy="456840"/>
            </a:xfrm>
          </p:grpSpPr>
          <p:sp>
            <p:nvSpPr>
              <p:cNvPr id="557" name="Oval 135"/>
              <p:cNvSpPr/>
              <p:nvPr/>
            </p:nvSpPr>
            <p:spPr>
              <a:xfrm>
                <a:off x="6008400" y="6171840"/>
                <a:ext cx="130320" cy="11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Oval 136"/>
              <p:cNvSpPr/>
              <p:nvPr/>
            </p:nvSpPr>
            <p:spPr>
              <a:xfrm>
                <a:off x="6139080" y="6285960"/>
                <a:ext cx="130320" cy="11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Oval 137"/>
              <p:cNvSpPr/>
              <p:nvPr/>
            </p:nvSpPr>
            <p:spPr>
              <a:xfrm>
                <a:off x="6269400" y="6400440"/>
                <a:ext cx="130680" cy="11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Oval 138"/>
              <p:cNvSpPr/>
              <p:nvPr/>
            </p:nvSpPr>
            <p:spPr>
              <a:xfrm>
                <a:off x="6139080" y="6457680"/>
                <a:ext cx="130320" cy="11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Oval 139"/>
              <p:cNvSpPr/>
              <p:nvPr/>
            </p:nvSpPr>
            <p:spPr>
              <a:xfrm>
                <a:off x="5943240" y="6343200"/>
                <a:ext cx="130320" cy="11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Oval 140"/>
              <p:cNvSpPr/>
              <p:nvPr/>
            </p:nvSpPr>
            <p:spPr>
              <a:xfrm>
                <a:off x="5943240" y="6514560"/>
                <a:ext cx="130320" cy="11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3" name="Line 141"/>
            <p:cNvSpPr/>
            <p:nvPr/>
          </p:nvSpPr>
          <p:spPr>
            <a:xfrm flipH="1">
              <a:off x="7162200" y="457164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Line 142"/>
            <p:cNvSpPr/>
            <p:nvPr/>
          </p:nvSpPr>
          <p:spPr>
            <a:xfrm flipH="1">
              <a:off x="6324120" y="5257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143"/>
            <p:cNvSpPr/>
            <p:nvPr/>
          </p:nvSpPr>
          <p:spPr>
            <a:xfrm flipH="1">
              <a:off x="5485680" y="59432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144"/>
            <p:cNvSpPr/>
            <p:nvPr/>
          </p:nvSpPr>
          <p:spPr>
            <a:xfrm>
              <a:off x="6781680" y="5333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145"/>
            <p:cNvSpPr/>
            <p:nvPr/>
          </p:nvSpPr>
          <p:spPr>
            <a:xfrm flipH="1">
              <a:off x="6324120" y="601956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Oval 146"/>
            <p:cNvSpPr/>
            <p:nvPr/>
          </p:nvSpPr>
          <p:spPr>
            <a:xfrm>
              <a:off x="8000640" y="4952880"/>
              <a:ext cx="762120" cy="5331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147"/>
            <p:cNvSpPr/>
            <p:nvPr/>
          </p:nvSpPr>
          <p:spPr>
            <a:xfrm>
              <a:off x="7696080" y="4571640"/>
              <a:ext cx="3045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0" name="Rectangle 149"/>
          <p:cNvSpPr/>
          <p:nvPr/>
        </p:nvSpPr>
        <p:spPr>
          <a:xfrm>
            <a:off x="2666880" y="3049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6633"/>
                </a:solidFill>
                <a:latin typeface="Times New Roman"/>
              </a:rPr>
              <a:t>Células Madre Adul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150"/>
          <p:cNvSpPr/>
          <p:nvPr/>
        </p:nvSpPr>
        <p:spPr>
          <a:xfrm>
            <a:off x="5791320" y="129528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Célula madre de la Médula ós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51"/>
          <p:cNvSpPr/>
          <p:nvPr/>
        </p:nvSpPr>
        <p:spPr>
          <a:xfrm>
            <a:off x="457200" y="5867280"/>
            <a:ext cx="2644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600" spc="-1" strike="noStrike" u="sng">
                <a:solidFill>
                  <a:srgbClr val="000000"/>
                </a:solidFill>
                <a:uFillTx/>
                <a:latin typeface="Times New Roman"/>
              </a:rPr>
              <a:t>Hematopoye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152"/>
          <p:cNvSpPr/>
          <p:nvPr/>
        </p:nvSpPr>
        <p:spPr>
          <a:xfrm>
            <a:off x="2819520" y="1676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H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153"/>
          <p:cNvSpPr/>
          <p:nvPr/>
        </p:nvSpPr>
        <p:spPr>
          <a:xfrm>
            <a:off x="1447920" y="3276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G.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54"/>
          <p:cNvSpPr/>
          <p:nvPr/>
        </p:nvSpPr>
        <p:spPr>
          <a:xfrm>
            <a:off x="1219320" y="220968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cursores del linaje ro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Group 161"/>
          <p:cNvGrpSpPr/>
          <p:nvPr/>
        </p:nvGrpSpPr>
        <p:grpSpPr>
          <a:xfrm>
            <a:off x="4343400" y="2438280"/>
            <a:ext cx="2209680" cy="2210040"/>
            <a:chOff x="4343400" y="2438280"/>
            <a:chExt cx="2209680" cy="2210040"/>
          </a:xfrm>
        </p:grpSpPr>
        <p:sp>
          <p:nvSpPr>
            <p:cNvPr id="577" name="Line 158"/>
            <p:cNvSpPr/>
            <p:nvPr/>
          </p:nvSpPr>
          <p:spPr>
            <a:xfrm>
              <a:off x="4343400" y="2438280"/>
              <a:ext cx="380880" cy="30492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Line 159"/>
            <p:cNvSpPr/>
            <p:nvPr/>
          </p:nvSpPr>
          <p:spPr>
            <a:xfrm>
              <a:off x="5334120" y="3352680"/>
              <a:ext cx="380880" cy="38124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Line 160"/>
            <p:cNvSpPr/>
            <p:nvPr/>
          </p:nvSpPr>
          <p:spPr>
            <a:xfrm>
              <a:off x="6172200" y="4267080"/>
              <a:ext cx="380880" cy="381240"/>
            </a:xfrm>
            <a:prstGeom prst="line">
              <a:avLst/>
            </a:prstGeom>
            <a:ln w="936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Text Box 162"/>
          <p:cNvSpPr/>
          <p:nvPr/>
        </p:nvSpPr>
        <p:spPr>
          <a:xfrm>
            <a:off x="6858000" y="57913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cursores del linaje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3"/>
          <p:cNvSpPr/>
          <p:nvPr/>
        </p:nvSpPr>
        <p:spPr>
          <a:xfrm>
            <a:off x="6324480" y="638964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G.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3048120" y="3049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6633"/>
                </a:solidFill>
                <a:latin typeface="Times New Roman"/>
              </a:rPr>
              <a:t>Células Mad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3"/>
          <p:cNvSpPr/>
          <p:nvPr/>
        </p:nvSpPr>
        <p:spPr>
          <a:xfrm>
            <a:off x="3162240" y="1219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 u="sng">
                <a:solidFill>
                  <a:srgbClr val="00cc99"/>
                </a:solidFill>
                <a:uFillTx/>
                <a:latin typeface="Times New Roman"/>
              </a:rPr>
              <a:t>Embrionales (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6"/>
          <p:cNvSpPr/>
          <p:nvPr/>
        </p:nvSpPr>
        <p:spPr>
          <a:xfrm>
            <a:off x="0" y="4508640"/>
            <a:ext cx="22860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Zigo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(óvulo fecunda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7"/>
          <p:cNvSpPr/>
          <p:nvPr/>
        </p:nvSpPr>
        <p:spPr>
          <a:xfrm>
            <a:off x="380880" y="5410080"/>
            <a:ext cx="160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33cc"/>
                </a:solidFill>
                <a:latin typeface="Times New Roman"/>
              </a:rPr>
              <a:t>Única Célula </a:t>
            </a:r>
            <a:r>
              <a:rPr b="0" lang="es-MX" sz="2200" spc="-1" strike="noStrike" u="sng">
                <a:solidFill>
                  <a:srgbClr val="3333cc"/>
                </a:solidFill>
                <a:uFillTx/>
                <a:latin typeface="Times New Roman"/>
              </a:rPr>
              <a:t>Totipot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9"/>
          <p:cNvSpPr/>
          <p:nvPr/>
        </p:nvSpPr>
        <p:spPr>
          <a:xfrm>
            <a:off x="2743200" y="5410080"/>
            <a:ext cx="160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33cc"/>
                </a:solidFill>
                <a:latin typeface="Times New Roman"/>
              </a:rPr>
              <a:t>Masa Celular </a:t>
            </a:r>
            <a:r>
              <a:rPr b="0" lang="es-MX" sz="2200" spc="-1" strike="noStrike" u="sng">
                <a:solidFill>
                  <a:srgbClr val="3333cc"/>
                </a:solidFill>
                <a:uFillTx/>
                <a:latin typeface="Times New Roman"/>
              </a:rPr>
              <a:t>Totipot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10"/>
          <p:cNvSpPr/>
          <p:nvPr/>
        </p:nvSpPr>
        <p:spPr>
          <a:xfrm>
            <a:off x="2209680" y="4581360"/>
            <a:ext cx="25909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Móru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(varios Blastómer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11"/>
          <p:cNvSpPr/>
          <p:nvPr/>
        </p:nvSpPr>
        <p:spPr>
          <a:xfrm>
            <a:off x="4572000" y="4581360"/>
            <a:ext cx="27432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Blastocis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sa celular interna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14"/>
          <p:cNvSpPr/>
          <p:nvPr/>
        </p:nvSpPr>
        <p:spPr>
          <a:xfrm>
            <a:off x="4952880" y="541008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33cc"/>
                </a:solidFill>
                <a:latin typeface="Times New Roman"/>
              </a:rPr>
              <a:t>Masa Celular </a:t>
            </a:r>
            <a:r>
              <a:rPr b="0" lang="es-MX" sz="2200" spc="-1" strike="noStrike" u="sng">
                <a:solidFill>
                  <a:srgbClr val="3333cc"/>
                </a:solidFill>
                <a:uFillTx/>
                <a:latin typeface="Times New Roman"/>
              </a:rPr>
              <a:t>Pluripot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Group 36"/>
          <p:cNvGrpSpPr/>
          <p:nvPr/>
        </p:nvGrpSpPr>
        <p:grpSpPr>
          <a:xfrm>
            <a:off x="395280" y="2062080"/>
            <a:ext cx="8748000" cy="2898000"/>
            <a:chOff x="395280" y="2062080"/>
            <a:chExt cx="8748000" cy="2898000"/>
          </a:xfrm>
        </p:grpSpPr>
        <p:sp>
          <p:nvSpPr>
            <p:cNvPr id="591" name="Text Box 16"/>
            <p:cNvSpPr/>
            <p:nvPr/>
          </p:nvSpPr>
          <p:spPr>
            <a:xfrm>
              <a:off x="629280" y="2062080"/>
              <a:ext cx="1562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Día 0 </a:t>
              </a: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Fecundacion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Text Box 17"/>
            <p:cNvSpPr/>
            <p:nvPr/>
          </p:nvSpPr>
          <p:spPr>
            <a:xfrm>
              <a:off x="2816640" y="2062080"/>
              <a:ext cx="1640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Día 3  </a:t>
              </a: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rompa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Text Box 19"/>
            <p:cNvSpPr/>
            <p:nvPr/>
          </p:nvSpPr>
          <p:spPr>
            <a:xfrm>
              <a:off x="4847400" y="2133360"/>
              <a:ext cx="2421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Día 7                    </a:t>
              </a: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Previo a Implant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4" name="Group 35"/>
            <p:cNvGrpSpPr/>
            <p:nvPr/>
          </p:nvGrpSpPr>
          <p:grpSpPr>
            <a:xfrm>
              <a:off x="395280" y="2894040"/>
              <a:ext cx="8748000" cy="2066040"/>
              <a:chOff x="395280" y="2894040"/>
              <a:chExt cx="8748000" cy="2066040"/>
            </a:xfrm>
          </p:grpSpPr>
          <p:pic>
            <p:nvPicPr>
              <p:cNvPr id="595" name="Picture 4" descr="cigoto1"/>
              <p:cNvPicPr/>
              <p:nvPr/>
            </p:nvPicPr>
            <p:blipFill>
              <a:blip r:embed="rId1"/>
              <a:srcRect l="21917" t="15528" r="16437" b="9591"/>
              <a:stretch/>
            </p:blipFill>
            <p:spPr>
              <a:xfrm>
                <a:off x="395280" y="2894040"/>
                <a:ext cx="1874520" cy="167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6" name="Picture 5" descr="blastocisto3"/>
              <p:cNvPicPr/>
              <p:nvPr/>
            </p:nvPicPr>
            <p:blipFill>
              <a:blip r:embed="rId2">
                <a:lum contrast="24000"/>
              </a:blip>
              <a:srcRect l="5508" t="7155" r="11343" b="1638"/>
              <a:stretch/>
            </p:blipFill>
            <p:spPr>
              <a:xfrm>
                <a:off x="5003640" y="2894040"/>
                <a:ext cx="1902240" cy="166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7" name="Picture 8" descr="morula3"/>
              <p:cNvPicPr/>
              <p:nvPr/>
            </p:nvPicPr>
            <p:blipFill>
              <a:blip r:embed="rId3"/>
              <a:srcRect l="13165" t="9979" r="14835" b="8315"/>
              <a:stretch/>
            </p:blipFill>
            <p:spPr>
              <a:xfrm>
                <a:off x="2660400" y="2894040"/>
                <a:ext cx="1952280" cy="1697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8" name="Text Box 12"/>
              <p:cNvSpPr/>
              <p:nvPr/>
            </p:nvSpPr>
            <p:spPr>
              <a:xfrm>
                <a:off x="6878520" y="3353040"/>
                <a:ext cx="117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MX" sz="2000" spc="-1" strike="noStrike">
                    <a:solidFill>
                      <a:srgbClr val="000000"/>
                    </a:solidFill>
                    <a:latin typeface="Times New Roman"/>
                  </a:rPr>
                  <a:t>m.c.i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Line 13"/>
              <p:cNvSpPr/>
              <p:nvPr/>
            </p:nvSpPr>
            <p:spPr>
              <a:xfrm>
                <a:off x="5784480" y="4271040"/>
                <a:ext cx="1405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AutoShape 15"/>
              <p:cNvSpPr/>
              <p:nvPr/>
            </p:nvSpPr>
            <p:spPr>
              <a:xfrm>
                <a:off x="2269800" y="3658680"/>
                <a:ext cx="390600" cy="153000"/>
              </a:xfrm>
              <a:prstGeom prst="rightArrow">
                <a:avLst>
                  <a:gd name="adj1" fmla="val 50000"/>
                  <a:gd name="adj2" fmla="val 63824"/>
                </a:avLst>
              </a:prstGeom>
              <a:solidFill>
                <a:srgbClr val="99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AutoShape 20"/>
              <p:cNvSpPr/>
              <p:nvPr/>
            </p:nvSpPr>
            <p:spPr>
              <a:xfrm>
                <a:off x="4613040" y="3709800"/>
                <a:ext cx="390600" cy="153000"/>
              </a:xfrm>
              <a:prstGeom prst="rightArrow">
                <a:avLst>
                  <a:gd name="adj1" fmla="val 50000"/>
                  <a:gd name="adj2" fmla="val 63824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Text Box 21"/>
              <p:cNvSpPr/>
              <p:nvPr/>
            </p:nvSpPr>
            <p:spPr>
              <a:xfrm>
                <a:off x="7034400" y="4041360"/>
                <a:ext cx="16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Times New Roman"/>
                  </a:rPr>
                  <a:t>Trofoblast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Line 23"/>
              <p:cNvSpPr/>
              <p:nvPr/>
            </p:nvSpPr>
            <p:spPr>
              <a:xfrm>
                <a:off x="7737480" y="4424040"/>
                <a:ext cx="234000" cy="22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Text Box 24"/>
              <p:cNvSpPr/>
              <p:nvPr/>
            </p:nvSpPr>
            <p:spPr>
              <a:xfrm>
                <a:off x="7737480" y="4500360"/>
                <a:ext cx="140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Times New Roman"/>
                  </a:rPr>
                  <a:t>Placent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Text Box 27"/>
              <p:cNvSpPr/>
              <p:nvPr/>
            </p:nvSpPr>
            <p:spPr>
              <a:xfrm>
                <a:off x="7503120" y="3046680"/>
                <a:ext cx="16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Times New Roman"/>
                  </a:rPr>
                  <a:t>Embrió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Line 28"/>
              <p:cNvSpPr/>
              <p:nvPr/>
            </p:nvSpPr>
            <p:spPr>
              <a:xfrm flipV="1">
                <a:off x="7815600" y="3352680"/>
                <a:ext cx="234000" cy="22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Freeform 29"/>
              <p:cNvSpPr/>
              <p:nvPr/>
            </p:nvSpPr>
            <p:spPr>
              <a:xfrm>
                <a:off x="5381280" y="3187080"/>
                <a:ext cx="1236240" cy="994680"/>
              </a:xfrm>
              <a:custGeom>
                <a:avLst/>
                <a:gdLst>
                  <a:gd name="textAreaLeft" fmla="*/ 0 w 1236240"/>
                  <a:gd name="textAreaRight" fmla="*/ 1236240 w 1236240"/>
                  <a:gd name="textAreaTop" fmla="*/ 0 h 994680"/>
                  <a:gd name="textAreaBottom" fmla="*/ 995040 h 994680"/>
                </a:gdLst>
                <a:ahLst/>
                <a:rect l="textAreaLeft" t="textAreaTop" r="textAreaRight" b="textAreaBottom"/>
                <a:pathLst>
                  <a:path w="760" h="624">
                    <a:moveTo>
                      <a:pt x="344" y="48"/>
                    </a:moveTo>
                    <a:cubicBezTo>
                      <a:pt x="262" y="69"/>
                      <a:pt x="302" y="61"/>
                      <a:pt x="224" y="72"/>
                    </a:cubicBezTo>
                    <a:cubicBezTo>
                      <a:pt x="213" y="69"/>
                      <a:pt x="201" y="71"/>
                      <a:pt x="192" y="64"/>
                    </a:cubicBezTo>
                    <a:cubicBezTo>
                      <a:pt x="185" y="59"/>
                      <a:pt x="192" y="43"/>
                      <a:pt x="184" y="40"/>
                    </a:cubicBezTo>
                    <a:cubicBezTo>
                      <a:pt x="171" y="36"/>
                      <a:pt x="157" y="44"/>
                      <a:pt x="144" y="48"/>
                    </a:cubicBezTo>
                    <a:cubicBezTo>
                      <a:pt x="79" y="66"/>
                      <a:pt x="22" y="102"/>
                      <a:pt x="0" y="168"/>
                    </a:cubicBezTo>
                    <a:cubicBezTo>
                      <a:pt x="12" y="229"/>
                      <a:pt x="8" y="227"/>
                      <a:pt x="64" y="264"/>
                    </a:cubicBezTo>
                    <a:cubicBezTo>
                      <a:pt x="72" y="269"/>
                      <a:pt x="79" y="277"/>
                      <a:pt x="88" y="280"/>
                    </a:cubicBezTo>
                    <a:cubicBezTo>
                      <a:pt x="104" y="285"/>
                      <a:pt x="136" y="296"/>
                      <a:pt x="136" y="296"/>
                    </a:cubicBezTo>
                    <a:cubicBezTo>
                      <a:pt x="159" y="330"/>
                      <a:pt x="165" y="403"/>
                      <a:pt x="216" y="416"/>
                    </a:cubicBezTo>
                    <a:cubicBezTo>
                      <a:pt x="248" y="424"/>
                      <a:pt x="269" y="430"/>
                      <a:pt x="296" y="448"/>
                    </a:cubicBezTo>
                    <a:cubicBezTo>
                      <a:pt x="334" y="506"/>
                      <a:pt x="280" y="435"/>
                      <a:pt x="360" y="488"/>
                    </a:cubicBezTo>
                    <a:cubicBezTo>
                      <a:pt x="395" y="511"/>
                      <a:pt x="422" y="537"/>
                      <a:pt x="456" y="560"/>
                    </a:cubicBezTo>
                    <a:cubicBezTo>
                      <a:pt x="466" y="575"/>
                      <a:pt x="480" y="599"/>
                      <a:pt x="496" y="608"/>
                    </a:cubicBezTo>
                    <a:cubicBezTo>
                      <a:pt x="511" y="616"/>
                      <a:pt x="544" y="624"/>
                      <a:pt x="544" y="624"/>
                    </a:cubicBezTo>
                    <a:cubicBezTo>
                      <a:pt x="586" y="617"/>
                      <a:pt x="632" y="623"/>
                      <a:pt x="672" y="608"/>
                    </a:cubicBezTo>
                    <a:cubicBezTo>
                      <a:pt x="683" y="604"/>
                      <a:pt x="679" y="554"/>
                      <a:pt x="688" y="536"/>
                    </a:cubicBezTo>
                    <a:cubicBezTo>
                      <a:pt x="697" y="517"/>
                      <a:pt x="721" y="511"/>
                      <a:pt x="736" y="496"/>
                    </a:cubicBezTo>
                    <a:cubicBezTo>
                      <a:pt x="759" y="426"/>
                      <a:pt x="737" y="350"/>
                      <a:pt x="760" y="280"/>
                    </a:cubicBezTo>
                    <a:cubicBezTo>
                      <a:pt x="746" y="226"/>
                      <a:pt x="738" y="142"/>
                      <a:pt x="672" y="120"/>
                    </a:cubicBezTo>
                    <a:cubicBezTo>
                      <a:pt x="632" y="107"/>
                      <a:pt x="552" y="80"/>
                      <a:pt x="552" y="80"/>
                    </a:cubicBezTo>
                    <a:cubicBezTo>
                      <a:pt x="536" y="56"/>
                      <a:pt x="528" y="32"/>
                      <a:pt x="512" y="8"/>
                    </a:cubicBezTo>
                    <a:cubicBezTo>
                      <a:pt x="476" y="20"/>
                      <a:pt x="444" y="12"/>
                      <a:pt x="408" y="0"/>
                    </a:cubicBezTo>
                    <a:cubicBezTo>
                      <a:pt x="347" y="10"/>
                      <a:pt x="366" y="5"/>
                      <a:pt x="344" y="48"/>
                    </a:cubicBez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Line 30"/>
              <p:cNvSpPr/>
              <p:nvPr/>
            </p:nvSpPr>
            <p:spPr>
              <a:xfrm>
                <a:off x="6097320" y="3582360"/>
                <a:ext cx="1015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9" name="Group 37"/>
          <p:cNvGrpSpPr/>
          <p:nvPr/>
        </p:nvGrpSpPr>
        <p:grpSpPr>
          <a:xfrm>
            <a:off x="6659640" y="4941720"/>
            <a:ext cx="2133000" cy="1922760"/>
            <a:chOff x="6659640" y="4941720"/>
            <a:chExt cx="2133000" cy="1922760"/>
          </a:xfrm>
        </p:grpSpPr>
        <p:grpSp>
          <p:nvGrpSpPr>
            <p:cNvPr id="610" name="Group 34"/>
            <p:cNvGrpSpPr/>
            <p:nvPr/>
          </p:nvGrpSpPr>
          <p:grpSpPr>
            <a:xfrm>
              <a:off x="7268760" y="4941720"/>
              <a:ext cx="1523880" cy="1922760"/>
              <a:chOff x="7268760" y="4941720"/>
              <a:chExt cx="1523880" cy="1922760"/>
            </a:xfrm>
          </p:grpSpPr>
          <p:sp>
            <p:nvSpPr>
              <p:cNvPr id="611" name="Text Box 31"/>
              <p:cNvSpPr/>
              <p:nvPr/>
            </p:nvSpPr>
            <p:spPr>
              <a:xfrm>
                <a:off x="7268760" y="4941720"/>
                <a:ext cx="1523880" cy="19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Times New Roman"/>
                  </a:rPr>
                  <a:t>Son Células Madre Embrionales</a:t>
                </a:r>
                <a:r>
                  <a:rPr b="0" i="1" lang="es-MX" sz="2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 in vitr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Rectangle 32"/>
              <p:cNvSpPr/>
              <p:nvPr/>
            </p:nvSpPr>
            <p:spPr>
              <a:xfrm>
                <a:off x="7344720" y="4941720"/>
                <a:ext cx="1447560" cy="121932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3" name="Line 33"/>
            <p:cNvSpPr/>
            <p:nvPr/>
          </p:nvSpPr>
          <p:spPr>
            <a:xfrm>
              <a:off x="6659640" y="5018040"/>
              <a:ext cx="609120" cy="304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2"/>
          <p:cNvSpPr/>
          <p:nvPr/>
        </p:nvSpPr>
        <p:spPr>
          <a:xfrm>
            <a:off x="3048120" y="3049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6633"/>
                </a:solidFill>
                <a:latin typeface="Times New Roman"/>
              </a:rPr>
              <a:t>Células Mad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3"/>
          <p:cNvSpPr/>
          <p:nvPr/>
        </p:nvSpPr>
        <p:spPr>
          <a:xfrm>
            <a:off x="800280" y="1371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 u="sng">
                <a:solidFill>
                  <a:srgbClr val="00cc99"/>
                </a:solidFill>
                <a:uFillTx/>
                <a:latin typeface="Times New Roman"/>
              </a:rPr>
              <a:t>Fuentes Proveedoras de Células Madre Adul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Group 7"/>
          <p:cNvGrpSpPr/>
          <p:nvPr/>
        </p:nvGrpSpPr>
        <p:grpSpPr>
          <a:xfrm>
            <a:off x="2324160" y="1905120"/>
            <a:ext cx="4486320" cy="4495680"/>
            <a:chOff x="2324160" y="1905120"/>
            <a:chExt cx="4486320" cy="4495680"/>
          </a:xfrm>
        </p:grpSpPr>
        <p:pic>
          <p:nvPicPr>
            <p:cNvPr id="617" name="Picture 4" descr="esqueletos"/>
            <p:cNvPicPr/>
            <p:nvPr/>
          </p:nvPicPr>
          <p:blipFill>
            <a:blip r:embed="rId1"/>
            <a:stretch/>
          </p:blipFill>
          <p:spPr>
            <a:xfrm>
              <a:off x="2338560" y="1905120"/>
              <a:ext cx="446688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Rectangle 6"/>
            <p:cNvSpPr/>
            <p:nvPr/>
          </p:nvSpPr>
          <p:spPr>
            <a:xfrm>
              <a:off x="2324160" y="1905120"/>
              <a:ext cx="4486320" cy="4495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Group 31"/>
          <p:cNvGrpSpPr/>
          <p:nvPr/>
        </p:nvGrpSpPr>
        <p:grpSpPr>
          <a:xfrm>
            <a:off x="179280" y="2082960"/>
            <a:ext cx="9028080" cy="4259160"/>
            <a:chOff x="179280" y="2082960"/>
            <a:chExt cx="9028080" cy="4259160"/>
          </a:xfrm>
        </p:grpSpPr>
        <p:grpSp>
          <p:nvGrpSpPr>
            <p:cNvPr id="620" name="Group 28"/>
            <p:cNvGrpSpPr/>
            <p:nvPr/>
          </p:nvGrpSpPr>
          <p:grpSpPr>
            <a:xfrm>
              <a:off x="179280" y="2082960"/>
              <a:ext cx="9028080" cy="4259160"/>
              <a:chOff x="179280" y="2082960"/>
              <a:chExt cx="9028080" cy="4259160"/>
            </a:xfrm>
          </p:grpSpPr>
          <p:grpSp>
            <p:nvGrpSpPr>
              <p:cNvPr id="621" name="Group 21"/>
              <p:cNvGrpSpPr/>
              <p:nvPr/>
            </p:nvGrpSpPr>
            <p:grpSpPr>
              <a:xfrm>
                <a:off x="179280" y="3429000"/>
                <a:ext cx="8812440" cy="2913120"/>
                <a:chOff x="179280" y="3429000"/>
                <a:chExt cx="8812440" cy="2913120"/>
              </a:xfrm>
            </p:grpSpPr>
            <p:sp>
              <p:nvSpPr>
                <p:cNvPr id="622" name="Line 10"/>
                <p:cNvSpPr/>
                <p:nvPr/>
              </p:nvSpPr>
              <p:spPr>
                <a:xfrm flipH="1">
                  <a:off x="1980720" y="3733920"/>
                  <a:ext cx="1143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Text Box 11"/>
                <p:cNvSpPr/>
                <p:nvPr/>
              </p:nvSpPr>
              <p:spPr>
                <a:xfrm>
                  <a:off x="179280" y="3495600"/>
                  <a:ext cx="1954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2400" spc="-1" strike="noStrike">
                      <a:solidFill>
                        <a:srgbClr val="000000"/>
                      </a:solidFill>
                      <a:latin typeface="Times New Roman"/>
                    </a:rPr>
                    <a:t>Osteo</a:t>
                  </a:r>
                  <a:r>
                    <a:rPr b="1" lang="es-MX" sz="2400" spc="-1" strike="noStrike">
                      <a:solidFill>
                        <a:srgbClr val="003399"/>
                      </a:solidFill>
                      <a:latin typeface="Times New Roman"/>
                    </a:rPr>
                    <a:t>blasto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Line 12"/>
                <p:cNvSpPr/>
                <p:nvPr/>
              </p:nvSpPr>
              <p:spPr>
                <a:xfrm flipH="1">
                  <a:off x="1980720" y="4419720"/>
                  <a:ext cx="1143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Text Box 13"/>
                <p:cNvSpPr/>
                <p:nvPr/>
              </p:nvSpPr>
              <p:spPr>
                <a:xfrm>
                  <a:off x="380880" y="4191120"/>
                  <a:ext cx="1752840" cy="15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24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Estroma de la Médula Ósea</a:t>
                  </a:r>
                  <a:r>
                    <a:rPr b="0" i="1" lang="es-MX" sz="24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 </a:t>
                  </a:r>
                  <a:r>
                    <a:rPr b="1" lang="es-MX" sz="2400" spc="-1" strike="noStrike">
                      <a:solidFill>
                        <a:srgbClr val="000000"/>
                      </a:solidFill>
                      <a:latin typeface="Times New Roman"/>
                    </a:rPr>
                    <a:t>(MSC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Line 15"/>
                <p:cNvSpPr/>
                <p:nvPr/>
              </p:nvSpPr>
              <p:spPr>
                <a:xfrm flipH="1">
                  <a:off x="2057400" y="533412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Text Box 16"/>
                <p:cNvSpPr/>
                <p:nvPr/>
              </p:nvSpPr>
              <p:spPr>
                <a:xfrm>
                  <a:off x="228600" y="5516640"/>
                  <a:ext cx="196704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24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Hematopoyéticas </a:t>
                  </a:r>
                  <a:r>
                    <a:rPr b="1" lang="es-MX" sz="2400" spc="-1" strike="noStrike">
                      <a:solidFill>
                        <a:srgbClr val="000000"/>
                      </a:solidFill>
                      <a:latin typeface="Times New Roman"/>
                    </a:rPr>
                    <a:t>(HSC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Text Box 17"/>
                <p:cNvSpPr/>
                <p:nvPr/>
              </p:nvSpPr>
              <p:spPr>
                <a:xfrm>
                  <a:off x="6896160" y="3429000"/>
                  <a:ext cx="1981080" cy="15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24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Sistema Nervioso Central</a:t>
                  </a:r>
                  <a:r>
                    <a:rPr b="1" lang="es-MX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    (SNC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Line 18"/>
                <p:cNvSpPr/>
                <p:nvPr/>
              </p:nvSpPr>
              <p:spPr>
                <a:xfrm>
                  <a:off x="6553080" y="365760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Text Box 19"/>
                <p:cNvSpPr/>
                <p:nvPr/>
              </p:nvSpPr>
              <p:spPr>
                <a:xfrm>
                  <a:off x="6858000" y="4862520"/>
                  <a:ext cx="213372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24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Cordón Umbilica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Line 20"/>
                <p:cNvSpPr/>
                <p:nvPr/>
              </p:nvSpPr>
              <p:spPr>
                <a:xfrm>
                  <a:off x="6477120" y="4724280"/>
                  <a:ext cx="533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2" name="Line 22"/>
              <p:cNvSpPr/>
              <p:nvPr/>
            </p:nvSpPr>
            <p:spPr>
              <a:xfrm>
                <a:off x="6172200" y="289548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Line 23"/>
              <p:cNvSpPr/>
              <p:nvPr/>
            </p:nvSpPr>
            <p:spPr>
              <a:xfrm flipH="1">
                <a:off x="1981080" y="2971800"/>
                <a:ext cx="228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Text Box 24"/>
              <p:cNvSpPr/>
              <p:nvPr/>
            </p:nvSpPr>
            <p:spPr>
              <a:xfrm>
                <a:off x="533520" y="2743200"/>
                <a:ext cx="175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400" spc="-1" strike="noStrike">
                    <a:solidFill>
                      <a:srgbClr val="000000"/>
                    </a:solidFill>
                    <a:latin typeface="Times New Roman"/>
                  </a:rPr>
                  <a:t>Mio</a:t>
                </a:r>
                <a:r>
                  <a:rPr b="1" lang="es-MX" sz="2400" spc="-1" strike="noStrike">
                    <a:solidFill>
                      <a:srgbClr val="003399"/>
                    </a:solidFill>
                    <a:latin typeface="Times New Roman"/>
                  </a:rPr>
                  <a:t>blasto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Text Box 25"/>
              <p:cNvSpPr/>
              <p:nvPr/>
            </p:nvSpPr>
            <p:spPr>
              <a:xfrm>
                <a:off x="6769080" y="2666880"/>
                <a:ext cx="24382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400" spc="-1" strike="noStrike">
                    <a:solidFill>
                      <a:srgbClr val="000000"/>
                    </a:solidFill>
                    <a:latin typeface="Times New Roman"/>
                  </a:rPr>
                  <a:t>Endotelio Vascul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Line 26"/>
              <p:cNvSpPr/>
              <p:nvPr/>
            </p:nvSpPr>
            <p:spPr>
              <a:xfrm>
                <a:off x="4800600" y="2286000"/>
                <a:ext cx="213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Text Box 27"/>
              <p:cNvSpPr/>
              <p:nvPr/>
            </p:nvSpPr>
            <p:spPr>
              <a:xfrm>
                <a:off x="6858000" y="2082960"/>
                <a:ext cx="22096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400" spc="-1" strike="noStrike">
                    <a:solidFill>
                      <a:srgbClr val="000000"/>
                    </a:solidFill>
                    <a:latin typeface="Times New Roman"/>
                  </a:rPr>
                  <a:t>Endotelio de Córne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8" name="Line 29"/>
            <p:cNvSpPr/>
            <p:nvPr/>
          </p:nvSpPr>
          <p:spPr>
            <a:xfrm flipH="1">
              <a:off x="1980720" y="33526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Text Box 30"/>
            <p:cNvSpPr/>
            <p:nvPr/>
          </p:nvSpPr>
          <p:spPr>
            <a:xfrm>
              <a:off x="179280" y="3068640"/>
              <a:ext cx="217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Condro</a:t>
              </a:r>
              <a:r>
                <a:rPr b="1" lang="es-MX" sz="2400" spc="-1" strike="noStrike">
                  <a:solidFill>
                    <a:srgbClr val="003399"/>
                  </a:solidFill>
                  <a:latin typeface="Times New Roman"/>
                </a:rPr>
                <a:t>blas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2"/>
          <p:cNvSpPr/>
          <p:nvPr/>
        </p:nvSpPr>
        <p:spPr>
          <a:xfrm>
            <a:off x="609480" y="14479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 u="sng">
                <a:solidFill>
                  <a:srgbClr val="00cc99"/>
                </a:solidFill>
                <a:uFillTx/>
                <a:latin typeface="Times New Roman"/>
              </a:rPr>
              <a:t>Aplicación de las Células Madre Adultas para Terap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3"/>
          <p:cNvSpPr/>
          <p:nvPr/>
        </p:nvSpPr>
        <p:spPr>
          <a:xfrm>
            <a:off x="3048120" y="3049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6633"/>
                </a:solidFill>
                <a:latin typeface="Times New Roman"/>
              </a:rPr>
              <a:t>Células Mad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2" name="Group 13"/>
          <p:cNvGrpSpPr/>
          <p:nvPr/>
        </p:nvGrpSpPr>
        <p:grpSpPr>
          <a:xfrm>
            <a:off x="1116000" y="1989000"/>
            <a:ext cx="7558920" cy="2435040"/>
            <a:chOff x="1116000" y="1989000"/>
            <a:chExt cx="7558920" cy="2435040"/>
          </a:xfrm>
        </p:grpSpPr>
        <p:sp>
          <p:nvSpPr>
            <p:cNvPr id="643" name="Text Box 4"/>
            <p:cNvSpPr/>
            <p:nvPr/>
          </p:nvSpPr>
          <p:spPr>
            <a:xfrm>
              <a:off x="1116000" y="1989000"/>
              <a:ext cx="480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Terapias Celulares</a:t>
              </a:r>
              <a:r>
                <a:rPr b="0" lang="es-MX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Text Box 5"/>
            <p:cNvSpPr/>
            <p:nvPr/>
          </p:nvSpPr>
          <p:spPr>
            <a:xfrm>
              <a:off x="1134360" y="2824200"/>
              <a:ext cx="671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paración de Tejidos daña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Text Box 6"/>
            <p:cNvSpPr/>
            <p:nvPr/>
          </p:nvSpPr>
          <p:spPr>
            <a:xfrm>
              <a:off x="1159200" y="3598560"/>
              <a:ext cx="7515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Tratamiento de enfermedades genéticas        o producidas por terapias oncológicas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Group 12"/>
          <p:cNvGrpSpPr/>
          <p:nvPr/>
        </p:nvGrpSpPr>
        <p:grpSpPr>
          <a:xfrm>
            <a:off x="1763640" y="4724280"/>
            <a:ext cx="6624360" cy="1610640"/>
            <a:chOff x="1763640" y="4724280"/>
            <a:chExt cx="6624360" cy="1610640"/>
          </a:xfrm>
        </p:grpSpPr>
        <p:sp>
          <p:nvSpPr>
            <p:cNvPr id="647" name="Text Box 8"/>
            <p:cNvSpPr/>
            <p:nvPr/>
          </p:nvSpPr>
          <p:spPr>
            <a:xfrm>
              <a:off x="1763640" y="4953240"/>
              <a:ext cx="404244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Leucem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roblemas inmunitarios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Text Box 9"/>
            <p:cNvSpPr/>
            <p:nvPr/>
          </p:nvSpPr>
          <p:spPr>
            <a:xfrm>
              <a:off x="3778560" y="5739120"/>
              <a:ext cx="4561920" cy="5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Text Box 11"/>
            <p:cNvSpPr/>
            <p:nvPr/>
          </p:nvSpPr>
          <p:spPr>
            <a:xfrm>
              <a:off x="6312960" y="4724280"/>
              <a:ext cx="207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Linfom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elulaespermatozoidesmicro"/>
          <p:cNvPicPr/>
          <p:nvPr/>
        </p:nvPicPr>
        <p:blipFill>
          <a:blip r:embed="rId1"/>
          <a:stretch/>
        </p:blipFill>
        <p:spPr>
          <a:xfrm>
            <a:off x="3886200" y="692280"/>
            <a:ext cx="5257800" cy="4127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elulaespermasobreoocitomicro"/>
          <p:cNvPicPr/>
          <p:nvPr/>
        </p:nvPicPr>
        <p:blipFill>
          <a:blip r:embed="rId2"/>
          <a:stretch/>
        </p:blipFill>
        <p:spPr>
          <a:xfrm>
            <a:off x="0" y="2133720"/>
            <a:ext cx="4017960" cy="4724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celulaesppermatozoidesampliadosmicro"/>
          <p:cNvPicPr/>
          <p:nvPr/>
        </p:nvPicPr>
        <p:blipFill>
          <a:blip r:embed="rId3"/>
          <a:stretch/>
        </p:blipFill>
        <p:spPr>
          <a:xfrm>
            <a:off x="5586480" y="4724280"/>
            <a:ext cx="3557520" cy="24321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0"/>
          <p:cNvSpPr/>
          <p:nvPr/>
        </p:nvSpPr>
        <p:spPr>
          <a:xfrm>
            <a:off x="380880" y="54864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permatozo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LOS CROMOSO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4419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odas las células tienen el material genético en forma de AD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(Acido desoxirribonucle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ADN es la molécula química donde se localiza la información de la célu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cromosomas son fragmentos de ADN organizados en “ovillos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6" descr="Présentation de l'ADN"/>
          <p:cNvPicPr/>
          <p:nvPr/>
        </p:nvPicPr>
        <p:blipFill>
          <a:blip r:embed="rId1"/>
          <a:stretch/>
        </p:blipFill>
        <p:spPr>
          <a:xfrm>
            <a:off x="5791320" y="1828800"/>
            <a:ext cx="30715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LOS CROMOSO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olo se hacen visibles cuando la célula va a dividi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Group 10"/>
          <p:cNvGrpSpPr/>
          <p:nvPr/>
        </p:nvGrpSpPr>
        <p:grpSpPr>
          <a:xfrm>
            <a:off x="3083040" y="2049480"/>
            <a:ext cx="1085760" cy="2759040"/>
            <a:chOff x="3083040" y="2049480"/>
            <a:chExt cx="1085760" cy="2759040"/>
          </a:xfrm>
        </p:grpSpPr>
        <p:sp>
          <p:nvSpPr>
            <p:cNvPr id="115" name="Rectangle 7"/>
            <p:cNvSpPr/>
            <p:nvPr/>
          </p:nvSpPr>
          <p:spPr>
            <a:xfrm>
              <a:off x="3083040" y="20494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8"/>
            <p:cNvSpPr/>
            <p:nvPr/>
          </p:nvSpPr>
          <p:spPr>
            <a:xfrm>
              <a:off x="3083040" y="2049480"/>
              <a:ext cx="1085760" cy="27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171411"/>
                  </a:solidFill>
                  <a:latin typeface="Arial"/>
                  <a:ea typeface="Arial"/>
                </a:rPr>
                <a:t>  </a:t>
              </a:r>
              <a:r>
                <a:rPr b="0" lang="es-ES" sz="15900" spc="-1" strike="noStrike">
                  <a:solidFill>
                    <a:srgbClr val="171411"/>
                  </a:solidFill>
                  <a:latin typeface="Arial"/>
                  <a:ea typeface="Arial"/>
                </a:rPr>
                <a:t> </a:t>
              </a:r>
              <a:r>
                <a:rPr b="0" lang="es-ES" sz="800" spc="-1" strike="noStrike">
                  <a:solidFill>
                    <a:srgbClr val="171411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              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7" name="Picture 9" descr="cromosoma010404"/>
          <p:cNvPicPr/>
          <p:nvPr/>
        </p:nvPicPr>
        <p:blipFill>
          <a:blip r:embed="rId1"/>
          <a:stretch/>
        </p:blipFill>
        <p:spPr>
          <a:xfrm>
            <a:off x="3962520" y="2514600"/>
            <a:ext cx="388620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1T09:11:02Z</dcterms:created>
  <dc:creator>AAA</dc:creator>
  <dc:description/>
  <dc:language>en-US</dc:language>
  <cp:lastModifiedBy>Inma</cp:lastModifiedBy>
  <dcterms:modified xsi:type="dcterms:W3CDTF">2012-01-22T20:31:03Z</dcterms:modified>
  <cp:revision>76</cp:revision>
  <dc:subject/>
  <dc:title>Presentación de PowerPoint</dc:title>
</cp:coreProperties>
</file>